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3F6A-D940-43CD-9939-BC410A2C4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8"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9"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4AC4-5670-4CF2-AA88-19507F28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1"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2"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3"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4"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00381-027B-4819-B0CF-ACD8B931F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6"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68FFE-6990-4CB0-960B-CE3B3A659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462CB-3857-4C95-9E2A-19529B1DF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49"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9FD09-116C-4AC1-9FA5-DA982346D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51"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B4191-EFA1-4445-8255-4B5D5C1C5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53"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81A43-FFD7-4D1D-AF43-675E2CF56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957D0-64AC-4F89-BB7E-6F3928BEC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58CB-8621-46EC-A36A-FF3925C6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58"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403A4-399C-45CC-AEE3-F3E2122C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22A7-02E5-44E5-B4FA-9D5F98F78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62"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4"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FDC5-DBB1-4BB9-9A9D-1B8B51C6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66"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8"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73B0-9ABC-49C1-B32B-714B96D4B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0"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1"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AF9D2-A3E3-4B4C-855C-8B324E197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3"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4"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5"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6"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E938C-A8D7-4192-96ED-3B7C5B7BF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8"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9"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0"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1"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2"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3"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F4368-4348-4D37-B244-93E7A4F07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31EE42-7474-4FD6-B8FA-86339FB03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92"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C3122-E26C-47FA-94D3-5A3910CDE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94"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C3CBE-DC71-47EC-8BEF-A018E19B9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96"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7"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9D4B3-4501-417B-A592-03CD1D875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5290A-318F-4947-A4B0-BB289F6D0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9"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08E9-0346-47B4-912A-05B0571C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D3631-2D70-469A-B3A1-AF19CE7CE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01"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2"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3"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B41EE-95DD-4926-8F83-622D63A37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05"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DEEDC-8673-45E3-8737-5350FC1C4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09"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1"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549BA-D6EB-4DD1-B4B0-171E27B06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13"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4"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98185-80FC-4C5F-84F9-96BCFC1E7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16"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7"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8"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4BC039-103C-41D2-AED9-BECA9C556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21"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2"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3"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4"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5"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6"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6F2CE-D305-4EA5-965B-3B67D96CC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608FF4-BE44-49E4-89BF-12727BE38B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35"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9CFB9-0B00-46BB-AE36-4BEBBFD3E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37"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19673-4809-49FA-8074-234EF6A17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1"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2"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1DEAC-E8E4-4D4C-A9FA-09C49206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39"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40"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BCD33-766B-4D71-82AA-1D06395DD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C0DB4-FBEF-4B2B-9A8F-923A7A380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79C5F-8DB0-4299-8CB7-59453428B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44"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45"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46"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64E7D-DE72-4031-B181-64953DF3C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48"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49"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0"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ED6D4-6D1B-4F24-BDEC-98A955650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52"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49C52-9CB1-4EF4-9BA8-EEE2C3CFA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56"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1E79A-63D5-48E1-964F-16C790CBB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59"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4E2FBD-7C39-4874-B1B5-EE339F32F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64"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8"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9"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053A4-2431-49E6-8D63-FA9E280C2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C289F-69C5-4418-B134-E904EDC5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E65F4-9739-4374-8ED3-183A4D2B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6"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8"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9D00-689D-48C4-80A6-2E7BA1F7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0"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2"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5001-7C6D-4DC6-A2F5-B2A81264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4"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92B0C-5018-46A8-84AE-50A03B3DB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1293560" y="0"/>
            <a:ext cx="914400" cy="6858000"/>
          </a:xfrm>
          <a:prstGeom prst="rect">
            <a:avLst/>
          </a:prstGeom>
          <a:solidFill>
            <a:srgbClr val="353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edit the title text format</a:t>
            </a:r>
            <a:endParaRPr b="0" lang="en-US" sz="4400" spc="-1" strike="noStrike">
              <a:solidFill>
                <a:srgbClr val="000000"/>
              </a:solidFill>
              <a:latin typeface="Century Schoolbook"/>
            </a:endParaRPr>
          </a:p>
        </p:txBody>
      </p:sp>
      <p:sp>
        <p:nvSpPr>
          <p:cNvPr id="2"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a:bodyPr>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73008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00476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urth Outline Level</a:t>
            </a:r>
            <a:endParaRPr b="0" lang="en-US" sz="1800" spc="-1" strike="noStrike">
              <a:solidFill>
                <a:srgbClr val="000000"/>
              </a:solidFill>
              <a:latin typeface="Century Schoolbook"/>
            </a:endParaRPr>
          </a:p>
          <a:p>
            <a:pPr lvl="4" marL="127944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ifth Outline Level</a:t>
            </a:r>
            <a:endParaRPr b="0" lang="en-US" sz="1800" spc="-1" strike="noStrike">
              <a:solidFill>
                <a:srgbClr val="000000"/>
              </a:solidFill>
              <a:latin typeface="Century Schoolbook"/>
            </a:endParaRPr>
          </a:p>
          <a:p>
            <a:pPr lvl="5"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ixth Outline Level</a:t>
            </a:r>
            <a:endParaRPr b="0" lang="en-US" sz="1800" spc="-1" strike="noStrike">
              <a:solidFill>
                <a:srgbClr val="000000"/>
              </a:solidFill>
              <a:latin typeface="Century Schoolbook"/>
            </a:endParaRPr>
          </a:p>
          <a:p>
            <a:pPr lvl="6"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venth Outline Level</a:t>
            </a:r>
            <a:endParaRPr b="0" lang="en-US" sz="1800" spc="-1" strike="noStrike">
              <a:solidFill>
                <a:srgbClr val="000000"/>
              </a:solidFill>
              <a:latin typeface="Century Schoolbook"/>
            </a:endParaRPr>
          </a:p>
        </p:txBody>
      </p:sp>
      <p:sp>
        <p:nvSpPr>
          <p:cNvPr id="3" name="PlaceHolder 3"/>
          <p:cNvSpPr>
            <a:spLocks noGrp="1"/>
          </p:cNvSpPr>
          <p:nvPr>
            <p:ph type="dt" idx="1"/>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d9d9d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9d9db"/>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rot="16200000">
            <a:off x="9959760" y="4046400"/>
            <a:ext cx="3581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Schoolbook"/>
            </a:endParaRPr>
          </a:p>
        </p:txBody>
      </p:sp>
      <p:sp>
        <p:nvSpPr>
          <p:cNvPr id="5" name="PlaceHolder 5"/>
          <p:cNvSpPr>
            <a:spLocks noGrp="1"/>
          </p:cNvSpPr>
          <p:nvPr>
            <p:ph type="sldNum" idx="3"/>
          </p:nvPr>
        </p:nvSpPr>
        <p:spPr>
          <a:xfrm>
            <a:off x="11293560" y="6171840"/>
            <a:ext cx="914400" cy="59364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8e8e94"/>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1115A-81CC-4DBC-ABAB-4D099FF6F89A}" type="slidenum">
              <a:rPr b="0" lang="en-US" sz="3600" spc="-1" strike="noStrike">
                <a:solidFill>
                  <a:srgbClr val="8e8e94"/>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3537"/>
        </a:solidFill>
      </p:bgPr>
    </p:bg>
    <p:spTree>
      <p:nvGrpSpPr>
        <p:cNvPr id="1" name=""/>
        <p:cNvGrpSpPr/>
        <p:nvPr/>
      </p:nvGrpSpPr>
      <p:grpSpPr>
        <a:xfrm>
          <a:off x="0" y="0"/>
          <a:ext cx="0" cy="0"/>
          <a:chOff x="0" y="0"/>
          <a:chExt cx="0" cy="0"/>
        </a:xfrm>
      </p:grpSpPr>
      <p:sp>
        <p:nvSpPr>
          <p:cNvPr id="42" name="Rectangle 6"/>
          <p:cNvSpPr/>
          <p:nvPr/>
        </p:nvSpPr>
        <p:spPr>
          <a:xfrm>
            <a:off x="0" y="0"/>
            <a:ext cx="457200" cy="6858000"/>
          </a:xfrm>
          <a:prstGeom prst="rect">
            <a:avLst/>
          </a:prstGeom>
          <a:solidFill>
            <a:srgbClr val="6f6f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Schoolbook"/>
              </a:rPr>
              <a:t>Click to edit the title text format</a:t>
            </a:r>
            <a:endParaRPr b="0" lang="en-US" sz="4400" spc="-1" strike="noStrike">
              <a:solidFill>
                <a:srgbClr val="ffffff"/>
              </a:solidFill>
              <a:latin typeface="Century Schoolbook"/>
            </a:endParaRPr>
          </a:p>
        </p:txBody>
      </p:sp>
      <p:sp>
        <p:nvSpPr>
          <p:cNvPr id="44"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a:bodyPr>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Click to edit the outline text format</a:t>
            </a:r>
            <a:endParaRPr b="0" lang="en-US" sz="1800" spc="-1" strike="noStrike">
              <a:solidFill>
                <a:srgbClr val="ffffff"/>
              </a:solidFill>
              <a:latin typeface="Century Schoolbook"/>
            </a:endParaRPr>
          </a:p>
          <a:p>
            <a:pPr lvl="1" marL="45720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Second Outline Level</a:t>
            </a:r>
            <a:endParaRPr b="0" lang="en-US" sz="1800" spc="-1" strike="noStrike">
              <a:solidFill>
                <a:srgbClr val="ffffff"/>
              </a:solidFill>
              <a:latin typeface="Century Schoolbook"/>
            </a:endParaRPr>
          </a:p>
          <a:p>
            <a:pPr lvl="2" marL="73008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ird Outline Level</a:t>
            </a:r>
            <a:endParaRPr b="0" lang="en-US" sz="1800" spc="-1" strike="noStrike">
              <a:solidFill>
                <a:srgbClr val="ffffff"/>
              </a:solidFill>
              <a:latin typeface="Century Schoolbook"/>
            </a:endParaRPr>
          </a:p>
          <a:p>
            <a:pPr lvl="3" marL="100476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Fourth Outline Level</a:t>
            </a:r>
            <a:endParaRPr b="0" lang="en-US" sz="1800" spc="-1" strike="noStrike">
              <a:solidFill>
                <a:srgbClr val="ffffff"/>
              </a:solidFill>
              <a:latin typeface="Century Schoolbook"/>
            </a:endParaRPr>
          </a:p>
          <a:p>
            <a:pPr lvl="4" marL="127944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Fifth Outline Level</a:t>
            </a:r>
            <a:endParaRPr b="0" lang="en-US" sz="1800" spc="-1" strike="noStrike">
              <a:solidFill>
                <a:srgbClr val="ffffff"/>
              </a:solidFill>
              <a:latin typeface="Century Schoolbook"/>
            </a:endParaRPr>
          </a:p>
          <a:p>
            <a:pPr lvl="5" marL="1279440" indent="-18252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Sixth Outline Level</a:t>
            </a:r>
            <a:endParaRPr b="0" lang="en-US" sz="1800" spc="-1" strike="noStrike">
              <a:solidFill>
                <a:srgbClr val="ffffff"/>
              </a:solidFill>
              <a:latin typeface="Century Schoolbook"/>
            </a:endParaRPr>
          </a:p>
          <a:p>
            <a:pPr lvl="6" marL="1279440" indent="-18252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Seventh Outline Level</a:t>
            </a:r>
            <a:endParaRPr b="0" lang="en-US" sz="1800" spc="-1" strike="noStrike">
              <a:solidFill>
                <a:srgbClr val="ffffff"/>
              </a:solidFill>
              <a:latin typeface="Century Schoolbook"/>
            </a:endParaRPr>
          </a:p>
        </p:txBody>
      </p:sp>
      <p:sp>
        <p:nvSpPr>
          <p:cNvPr id="45" name="PlaceHolder 3"/>
          <p:cNvSpPr>
            <a:spLocks noGrp="1"/>
          </p:cNvSpPr>
          <p:nvPr>
            <p:ph type="dt" idx="4"/>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rot="16200000">
            <a:off x="9959760" y="4046400"/>
            <a:ext cx="3581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Schoolbook"/>
            </a:endParaRPr>
          </a:p>
        </p:txBody>
      </p:sp>
      <p:sp>
        <p:nvSpPr>
          <p:cNvPr id="47" name="PlaceHolder 5"/>
          <p:cNvSpPr>
            <a:spLocks noGrp="1"/>
          </p:cNvSpPr>
          <p:nvPr>
            <p:ph type="sldNum" idx="6"/>
          </p:nvPr>
        </p:nvSpPr>
        <p:spPr>
          <a:xfrm>
            <a:off x="11293560" y="6171840"/>
            <a:ext cx="914400" cy="59364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86070-630B-48EB-A141-657C2A27FCD8}" type="slidenum">
              <a:rPr b="0" lang="en-US" sz="3600" spc="-1" strike="noStrike">
                <a:solidFill>
                  <a:srgbClr val="a6a6a6"/>
                </a:solidFill>
                <a:latin typeface="Times New Roman"/>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11293560" y="0"/>
            <a:ext cx="914400" cy="6858000"/>
          </a:xfrm>
          <a:prstGeom prst="rect">
            <a:avLst/>
          </a:prstGeom>
          <a:solidFill>
            <a:srgbClr val="353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85" name="Rectangle 6"/>
          <p:cNvSpPr/>
          <p:nvPr/>
        </p:nvSpPr>
        <p:spPr>
          <a:xfrm>
            <a:off x="0" y="0"/>
            <a:ext cx="457200" cy="6858000"/>
          </a:xfrm>
          <a:prstGeom prst="rect">
            <a:avLst/>
          </a:prstGeom>
          <a:solidFill>
            <a:srgbClr val="6f6f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8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edit the title text format</a:t>
            </a:r>
            <a:endParaRPr b="0" lang="en-US" sz="4400" spc="-1" strike="noStrike">
              <a:solidFill>
                <a:srgbClr val="000000"/>
              </a:solidFill>
              <a:latin typeface="Century Schoolbook"/>
            </a:endParaRPr>
          </a:p>
        </p:txBody>
      </p:sp>
      <p:sp>
        <p:nvSpPr>
          <p:cNvPr id="87"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a:bodyPr>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73008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00476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urth Outline Level</a:t>
            </a:r>
            <a:endParaRPr b="0" lang="en-US" sz="1800" spc="-1" strike="noStrike">
              <a:solidFill>
                <a:srgbClr val="000000"/>
              </a:solidFill>
              <a:latin typeface="Century Schoolbook"/>
            </a:endParaRPr>
          </a:p>
          <a:p>
            <a:pPr lvl="4" marL="127944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ifth Outline Level</a:t>
            </a:r>
            <a:endParaRPr b="0" lang="en-US" sz="1800" spc="-1" strike="noStrike">
              <a:solidFill>
                <a:srgbClr val="000000"/>
              </a:solidFill>
              <a:latin typeface="Century Schoolbook"/>
            </a:endParaRPr>
          </a:p>
          <a:p>
            <a:pPr lvl="5"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ixth Outline Level</a:t>
            </a:r>
            <a:endParaRPr b="0" lang="en-US" sz="1800" spc="-1" strike="noStrike">
              <a:solidFill>
                <a:srgbClr val="000000"/>
              </a:solidFill>
              <a:latin typeface="Century Schoolbook"/>
            </a:endParaRPr>
          </a:p>
          <a:p>
            <a:pPr lvl="6"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venth Outline Level</a:t>
            </a:r>
            <a:endParaRPr b="0" lang="en-US" sz="1800" spc="-1" strike="noStrike">
              <a:solidFill>
                <a:srgbClr val="000000"/>
              </a:solidFill>
              <a:latin typeface="Century Schoolbook"/>
            </a:endParaRPr>
          </a:p>
        </p:txBody>
      </p:sp>
      <p:sp>
        <p:nvSpPr>
          <p:cNvPr id="88" name="PlaceHolder 3"/>
          <p:cNvSpPr>
            <a:spLocks noGrp="1"/>
          </p:cNvSpPr>
          <p:nvPr>
            <p:ph type="dt" idx="7"/>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d9d9d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9d9db"/>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rot="16200000">
            <a:off x="9959760" y="4046400"/>
            <a:ext cx="3581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Schoolbook"/>
            </a:endParaRPr>
          </a:p>
        </p:txBody>
      </p:sp>
      <p:sp>
        <p:nvSpPr>
          <p:cNvPr id="90" name="PlaceHolder 5"/>
          <p:cNvSpPr>
            <a:spLocks noGrp="1"/>
          </p:cNvSpPr>
          <p:nvPr>
            <p:ph type="sldNum" idx="9"/>
          </p:nvPr>
        </p:nvSpPr>
        <p:spPr>
          <a:xfrm>
            <a:off x="11293560" y="6171840"/>
            <a:ext cx="914400" cy="59364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8e8e94"/>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9C3E1-5AF0-4EF7-B452-A9E98BCD9A27}" type="slidenum">
              <a:rPr b="0" lang="en-US" sz="3600" spc="-1" strike="noStrike">
                <a:solidFill>
                  <a:srgbClr val="8e8e94"/>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11293560" y="0"/>
            <a:ext cx="914400" cy="6858000"/>
          </a:xfrm>
          <a:prstGeom prst="rect">
            <a:avLst/>
          </a:prstGeom>
          <a:solidFill>
            <a:srgbClr val="353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28" name="Rectangle 7"/>
          <p:cNvSpPr/>
          <p:nvPr/>
        </p:nvSpPr>
        <p:spPr>
          <a:xfrm>
            <a:off x="0" y="5105520"/>
            <a:ext cx="11293560" cy="175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2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edit the title text format</a:t>
            </a:r>
            <a:endParaRPr b="0" lang="en-US" sz="4400" spc="-1" strike="noStrike">
              <a:solidFill>
                <a:srgbClr val="000000"/>
              </a:solidFill>
              <a:latin typeface="Century Schoolbook"/>
            </a:endParaRPr>
          </a:p>
        </p:txBody>
      </p:sp>
      <p:sp>
        <p:nvSpPr>
          <p:cNvPr id="130"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a:bodyPr>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73008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00476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urth Outline Level</a:t>
            </a:r>
            <a:endParaRPr b="0" lang="en-US" sz="1800" spc="-1" strike="noStrike">
              <a:solidFill>
                <a:srgbClr val="000000"/>
              </a:solidFill>
              <a:latin typeface="Century Schoolbook"/>
            </a:endParaRPr>
          </a:p>
          <a:p>
            <a:pPr lvl="4" marL="1279440" indent="-182520">
              <a:lnSpc>
                <a:spcPct val="95000"/>
              </a:lnSpc>
              <a:spcBef>
                <a:spcPts val="1400"/>
              </a:spcBef>
              <a:spcAft>
                <a:spcPts val="201"/>
              </a:spcAft>
              <a:buClr>
                <a:srgbClr val="6f6f7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ifth Outline Level</a:t>
            </a:r>
            <a:endParaRPr b="0" lang="en-US" sz="1800" spc="-1" strike="noStrike">
              <a:solidFill>
                <a:srgbClr val="000000"/>
              </a:solidFill>
              <a:latin typeface="Century Schoolbook"/>
            </a:endParaRPr>
          </a:p>
          <a:p>
            <a:pPr lvl="5"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ixth Outline Level</a:t>
            </a:r>
            <a:endParaRPr b="0" lang="en-US" sz="1800" spc="-1" strike="noStrike">
              <a:solidFill>
                <a:srgbClr val="000000"/>
              </a:solidFill>
              <a:latin typeface="Century Schoolbook"/>
            </a:endParaRPr>
          </a:p>
          <a:p>
            <a:pPr lvl="6" marL="1279440" indent="-182520">
              <a:lnSpc>
                <a:spcPct val="95000"/>
              </a:lnSpc>
              <a:spcBef>
                <a:spcPts val="1400"/>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venth Outline Level</a:t>
            </a:r>
            <a:endParaRPr b="0" lang="en-US" sz="1800" spc="-1" strike="noStrike">
              <a:solidFill>
                <a:srgbClr val="000000"/>
              </a:solidFill>
              <a:latin typeface="Century Schoolbook"/>
            </a:endParaRPr>
          </a:p>
        </p:txBody>
      </p:sp>
      <p:sp>
        <p:nvSpPr>
          <p:cNvPr id="131" name="PlaceHolder 3"/>
          <p:cNvSpPr>
            <a:spLocks noGrp="1"/>
          </p:cNvSpPr>
          <p:nvPr>
            <p:ph type="dt" idx="10"/>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d9d9d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9d9db"/>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rot="16200000">
            <a:off x="9959760" y="4046400"/>
            <a:ext cx="3581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Schoolbook"/>
            </a:endParaRPr>
          </a:p>
        </p:txBody>
      </p:sp>
      <p:sp>
        <p:nvSpPr>
          <p:cNvPr id="133" name="PlaceHolder 5"/>
          <p:cNvSpPr>
            <a:spLocks noGrp="1"/>
          </p:cNvSpPr>
          <p:nvPr>
            <p:ph type="sldNum" idx="12"/>
          </p:nvPr>
        </p:nvSpPr>
        <p:spPr>
          <a:xfrm>
            <a:off x="11293560" y="6171840"/>
            <a:ext cx="914400" cy="59364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8e8e94"/>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E15E3-A583-497E-A0FC-86A50E232D7B}" type="slidenum">
              <a:rPr b="0" lang="en-US" sz="3600" spc="-1" strike="noStrike">
                <a:solidFill>
                  <a:srgbClr val="8e8e94"/>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793600" y="1630080"/>
            <a:ext cx="8402760" cy="13842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Century Schoolbook"/>
              </a:rPr>
              <a:t>RESPONSABILITA’ PROFESSIONALE_</a:t>
            </a:r>
            <a:br>
              <a:rPr sz="2200"/>
            </a:br>
            <a:r>
              <a:rPr b="1" lang="it-IT" sz="2200" spc="-1" strike="noStrike">
                <a:solidFill>
                  <a:srgbClr val="ffff00"/>
                </a:solidFill>
                <a:latin typeface="Century Schoolbook"/>
              </a:rPr>
              <a:t>LINEE GUIDA PROCEDURA RILASCIO PARERE DI CONGRUITA’_</a:t>
            </a:r>
            <a:br>
              <a:rPr sz="2200"/>
            </a:br>
            <a:r>
              <a:rPr b="1" lang="it-IT" sz="2200" spc="-1" strike="noStrike">
                <a:solidFill>
                  <a:srgbClr val="ffff00"/>
                </a:solidFill>
                <a:latin typeface="Century Schoolbook"/>
              </a:rPr>
              <a:t>CORRISPETTIVI PROFESSIONALI ESCLUSI_</a:t>
            </a:r>
            <a:br>
              <a:rPr sz="2200"/>
            </a:br>
            <a:r>
              <a:rPr b="1" lang="it-IT" sz="2200" spc="-1" strike="noStrike">
                <a:solidFill>
                  <a:srgbClr val="ffff00"/>
                </a:solidFill>
                <a:latin typeface="Century Schoolbook"/>
              </a:rPr>
              <a:t>CREDITI FORMATIVI</a:t>
            </a:r>
            <a:endParaRPr b="0" lang="en-US" sz="2200" spc="-1" strike="noStrike">
              <a:solidFill>
                <a:srgbClr val="ffffff"/>
              </a:solidFill>
              <a:latin typeface="Century Schoolbook"/>
            </a:endParaRPr>
          </a:p>
        </p:txBody>
      </p:sp>
      <p:sp>
        <p:nvSpPr>
          <p:cNvPr id="171" name="PlaceHolder 2"/>
          <p:cNvSpPr>
            <a:spLocks noGrp="1"/>
          </p:cNvSpPr>
          <p:nvPr>
            <p:ph type="subTitle"/>
          </p:nvPr>
        </p:nvSpPr>
        <p:spPr>
          <a:xfrm>
            <a:off x="2793960" y="3014280"/>
            <a:ext cx="8253360" cy="3484440"/>
          </a:xfrm>
          <a:prstGeom prst="rect">
            <a:avLst/>
          </a:prstGeom>
          <a:noFill/>
          <a:ln w="0">
            <a:noFill/>
          </a:ln>
        </p:spPr>
        <p:txBody>
          <a:bodyPr anchor="t">
            <a:noAutofit/>
          </a:bodyPr>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Tahoma"/>
                <a:ea typeface="Tahoma"/>
              </a:rPr>
              <a:t>Programma:</a:t>
            </a:r>
            <a:r>
              <a:rPr b="1" lang="it-IT" sz="1400" spc="-1" strike="noStrike">
                <a:solidFill>
                  <a:srgbClr val="ffffff"/>
                </a:solidFill>
                <a:latin typeface="Tahoma"/>
                <a:ea typeface="Tahoma"/>
              </a:rPr>
              <a:t> </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ore 14,00 – Introduzione Presidente</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ore 14,30 – Inizio lavori per trattare i seguenti argomenti: </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Responsabilità professionale singola e solidale in tema di obbligazione di mezzi e di risultato,</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Responsabilità professionale alla luce del decreto SCIA 25/11/2016 n°222,</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ea typeface="Tahoma"/>
              </a:rPr>
              <a:t>ANAC</a:t>
            </a:r>
            <a:r>
              <a:rPr b="0" lang="it-IT" sz="1400" spc="-1" strike="noStrike">
                <a:solidFill>
                  <a:srgbClr val="ffffff"/>
                </a:solidFill>
                <a:latin typeface="Tahoma"/>
                <a:ea typeface="Tahoma"/>
              </a:rPr>
              <a:t> </a:t>
            </a:r>
            <a:r>
              <a:rPr b="0" i="1" lang="it-IT" sz="1400" spc="-1" strike="noStrike">
                <a:solidFill>
                  <a:srgbClr val="ffffff"/>
                </a:solidFill>
                <a:latin typeface="Tahoma"/>
                <a:ea typeface="Tahoma"/>
              </a:rPr>
              <a:t>–</a:t>
            </a:r>
            <a:r>
              <a:rPr b="0" lang="it-IT" sz="1400" spc="-1" strike="noStrike">
                <a:solidFill>
                  <a:srgbClr val="ffffff"/>
                </a:solidFill>
                <a:latin typeface="Tahoma"/>
                <a:ea typeface="Tahoma"/>
              </a:rPr>
              <a:t> </a:t>
            </a:r>
            <a:r>
              <a:rPr b="0" i="1" lang="it-IT" sz="1400" spc="-1" strike="noStrike">
                <a:solidFill>
                  <a:srgbClr val="ffffff"/>
                </a:solidFill>
                <a:latin typeface="Tahoma"/>
                <a:ea typeface="Tahoma"/>
              </a:rPr>
              <a:t>Linee Guida ANAC sull’affidamento servizi di architettura e ingegneria</a:t>
            </a:r>
            <a:r>
              <a:rPr b="0" lang="it-IT" sz="1400" spc="-1" strike="noStrike">
                <a:solidFill>
                  <a:srgbClr val="ffffff"/>
                </a:solidFill>
                <a:latin typeface="Tahoma"/>
                <a:ea typeface="Tahoma"/>
              </a:rPr>
              <a:t> (D. Leg.vo. 50/2016) -</a:t>
            </a:r>
            <a:r>
              <a:rPr b="0" i="1" lang="it-IT" sz="1400" spc="-1" strike="noStrike">
                <a:solidFill>
                  <a:srgbClr val="ffffff"/>
                </a:solidFill>
                <a:latin typeface="Tahoma"/>
                <a:ea typeface="Tahoma"/>
              </a:rPr>
              <a:t> cenni generali e specifici sulla Determinazione n°  6 n. 1293 del 16/11/2016 LE LINEE GUIDA SUI GRAVI ILLECITI PROFESSIONALI</a:t>
            </a:r>
            <a:r>
              <a:rPr b="1" lang="it-IT" sz="1400" spc="-1" strike="noStrike">
                <a:solidFill>
                  <a:srgbClr val="ffffff"/>
                </a:solidFill>
                <a:latin typeface="Tahoma"/>
                <a:ea typeface="Tahoma"/>
              </a:rPr>
              <a:t> – </a:t>
            </a:r>
            <a:r>
              <a:rPr b="0" lang="it-IT" sz="1400" spc="-1" strike="noStrike">
                <a:solidFill>
                  <a:srgbClr val="ffffff"/>
                </a:solidFill>
                <a:latin typeface="Tahoma"/>
                <a:ea typeface="Tahoma"/>
              </a:rPr>
              <a:t>Con riferimento all’art. 80, comma 5, lettera </a:t>
            </a:r>
            <a:r>
              <a:rPr b="0" i="1" lang="it-IT" sz="1400" spc="-1" strike="noStrike">
                <a:solidFill>
                  <a:srgbClr val="ffffff"/>
                </a:solidFill>
                <a:latin typeface="Tahoma"/>
                <a:ea typeface="Tahoma"/>
              </a:rPr>
              <a:t>c)</a:t>
            </a:r>
            <a:r>
              <a:rPr b="0" lang="it-IT" sz="1400" spc="-1" strike="noStrike">
                <a:solidFill>
                  <a:srgbClr val="ffffff"/>
                </a:solidFill>
                <a:latin typeface="Tahoma"/>
                <a:ea typeface="Tahoma"/>
              </a:rPr>
              <a:t>, </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Nuove Linee guida sul funzionamento della Commissione parcelle e sulla Procedura per il rilascio del parere di congruità sui corrispettivi per le prestazioni professionali (deliberate dal Consiglio il 29/11/2016), </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Corrispettivi professionali esclusi dal D.M. 140/2012 e dal D.Min.G. 17/06/2016 (ex D.M. 143/2013), indicazioni/suggerimenti dal Consiglio dell’Ordine.</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Crediti formativi (vedi Mariangela),</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Eventuale sintesi delle precedenti comunicazioni su: Assicurazione professionale, Contratto Tipo.</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ore 16,30 – Pausa caffè </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ore 18,30 – Dibattito</a:t>
            </a:r>
            <a:endParaRPr b="0" lang="en-US" sz="1400" spc="-1" strike="noStrike">
              <a:solidFill>
                <a:srgbClr val="ffffff"/>
              </a:solidFill>
              <a:latin typeface="Century Schoolbook"/>
            </a:endParaRPr>
          </a:p>
          <a:p>
            <a:pPr indent="0">
              <a:lnSpc>
                <a:spcPct val="7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ea typeface="Tahoma"/>
              </a:rPr>
              <a:t>ore 19,00 – Chiusura lavori</a:t>
            </a:r>
            <a:endParaRPr b="0" lang="en-US" sz="1400" spc="-1" strike="noStrike">
              <a:solidFill>
                <a:srgbClr val="ffffff"/>
              </a:solidFill>
              <a:latin typeface="Century Schoolbook"/>
            </a:endParaRPr>
          </a:p>
          <a:p>
            <a:pPr indent="0">
              <a:lnSpc>
                <a:spcPct val="7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Schoolbook"/>
            </a:endParaRPr>
          </a:p>
        </p:txBody>
      </p:sp>
      <p:pic>
        <p:nvPicPr>
          <p:cNvPr id="172" name="Immagine 3" descr=""/>
          <p:cNvPicPr/>
          <p:nvPr/>
        </p:nvPicPr>
        <p:blipFill>
          <a:blip r:embed="rId1"/>
          <a:stretch/>
        </p:blipFill>
        <p:spPr>
          <a:xfrm>
            <a:off x="1262160" y="506520"/>
            <a:ext cx="6334200" cy="803160"/>
          </a:xfrm>
          <a:prstGeom prst="rect">
            <a:avLst/>
          </a:prstGeom>
          <a:ln w="0">
            <a:noFill/>
          </a:ln>
        </p:spPr>
      </p:pic>
      <p:sp>
        <p:nvSpPr>
          <p:cNvPr id="173" name="CasellaDiTesto 5"/>
          <p:cNvSpPr/>
          <p:nvPr/>
        </p:nvSpPr>
        <p:spPr>
          <a:xfrm>
            <a:off x="741240" y="1673280"/>
            <a:ext cx="1903680" cy="49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Schoolbook"/>
              </a:rPr>
              <a:t>Data / Ora</a:t>
            </a:r>
            <a:br>
              <a:rPr sz="1200"/>
            </a:br>
            <a:r>
              <a:rPr b="0" lang="it-IT" sz="1600" spc="-1" strike="noStrike">
                <a:solidFill>
                  <a:srgbClr val="000000"/>
                </a:solidFill>
                <a:latin typeface="Century Schoolbook"/>
              </a:rPr>
              <a:t>22 feb 2017</a:t>
            </a:r>
            <a:br>
              <a:rPr sz="1600"/>
            </a:br>
            <a:r>
              <a:rPr b="0" i="1" lang="it-IT" sz="1600" spc="-1" strike="noStrike">
                <a:solidFill>
                  <a:srgbClr val="000000"/>
                </a:solidFill>
                <a:latin typeface="Century Schoolbook"/>
              </a:rPr>
              <a:t>14:00 - 19:00</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it-IT" sz="1200" spc="-1" strike="noStrike">
                <a:solidFill>
                  <a:srgbClr val="000000"/>
                </a:solidFill>
                <a:latin typeface="Century Schoolbook"/>
              </a:rPr>
              <a:t>Luogo</a:t>
            </a:r>
            <a:br>
              <a:rPr sz="1200"/>
            </a:br>
            <a:r>
              <a:rPr b="0" lang="it-IT" sz="1600" spc="-1" strike="noStrike">
                <a:solidFill>
                  <a:srgbClr val="000000"/>
                </a:solidFill>
                <a:latin typeface="Century Schoolbook"/>
              </a:rPr>
              <a:t>Aula Magna Fondazione Università di Mantova</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it-IT" sz="1200" spc="-1" strike="noStrike">
                <a:solidFill>
                  <a:srgbClr val="000000"/>
                </a:solidFill>
                <a:latin typeface="Century Schoolbook"/>
              </a:rPr>
              <a:t>Tipologia</a:t>
            </a:r>
            <a:endParaRPr b="0" lang="en-US" sz="12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Commissione Formazione</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Corsi di formazione</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Corso</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DEONTOLOGIA</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Ordine</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Schoolbook"/>
              </a:rPr>
              <a:t>Professione</a:t>
            </a:r>
            <a:endParaRPr b="0" lang="en-US" sz="1600" spc="-1" strike="noStrike">
              <a:solidFill>
                <a:srgbClr val="000000"/>
              </a:solidFill>
              <a:latin typeface="Century School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62160" y="1828440"/>
            <a:ext cx="8594640" cy="4351320"/>
          </a:xfrm>
          <a:prstGeom prst="rect">
            <a:avLst/>
          </a:prstGeom>
          <a:noFill/>
          <a:ln w="0">
            <a:noFill/>
          </a:ln>
        </p:spPr>
        <p:txBody>
          <a:bodyPr anchor="t">
            <a:normAutofit/>
          </a:bodyPr>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Schoolbook"/>
              </a:rPr>
              <a:t>E’ evidente, già da questa premessa, che la condanna in solido costituisce un rafforzativo del diritto al risarcimento del danneggiato in quanto consente a quest’ultimo di esigere l’intero risarcimento da uno qualsiasi dei soggetti responsabili ed è per questo motivo che il danneggiato, nella citazione in giudizio dei possibili responsabili, chiede praticamente sempre che il giudice riconosca questo genere di responsabilità tra i chiamati in causa e disponga conseguentemente la condanna solidale tra gli stessi.</a:t>
            </a:r>
            <a:endParaRPr b="0" lang="en-US" sz="15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Schoolbook"/>
              </a:rPr>
              <a:t>Come precisato dall’art. 2055 c.c., il soggetto che abbia pagato l’intero risarcimento al danneggiato ha poi diritto di rivalsa sugli altri soggetti coobbligati, sempre che, naturalmente, questi risultino solventi o non siano nel frattempo falliti. Diversamente non avendo modo di recuperare il risarcimento pagato, rimarrà a suo carico anche il pagamento della quota di responsabilità degli altri soggetti coobbligati.</a:t>
            </a:r>
            <a:endParaRPr b="0" lang="en-US" sz="15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Schoolbook"/>
              </a:rPr>
              <a:t>In caso di responsabilità professionale succede spesso che il professionista sia chiamato in causa insieme ad altri professionisti e ad una o più imprese e, purtroppo, può accadere che il giudice riconosca una responsabilità solidale tra due o più di questi soggetti.</a:t>
            </a:r>
            <a:endParaRPr b="0" lang="en-US" sz="15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Schoolbook"/>
              </a:rPr>
              <a:t>E’ il caso, ad esempio, dei vizi della costruzione di cui all’art. 1669 del codice civile ovvero quei vizi che causino la rovina totale o parziale degli edifici. In numerose sentenze, infatti, la Corte di Cassazione ha riconosciuto il concorso dell'appaltatore, del progettista e del direttore dei lavori, nella determinazione di questa tipologia di danno, condannando solidalmente i vari soggetti.</a:t>
            </a:r>
            <a:endParaRPr b="0" lang="en-US" sz="1500" spc="-1" strike="noStrike">
              <a:solidFill>
                <a:srgbClr val="000000"/>
              </a:solidFill>
              <a:latin typeface="Century Schoolbook"/>
            </a:endParaRPr>
          </a:p>
        </p:txBody>
      </p:sp>
      <p:sp>
        <p:nvSpPr>
          <p:cNvPr id="187" name="Titolo 1"/>
          <p:cNvSpPr/>
          <p:nvPr/>
        </p:nvSpPr>
        <p:spPr>
          <a:xfrm>
            <a:off x="712800" y="293760"/>
            <a:ext cx="9802800" cy="1325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Century Schoolbook"/>
              </a:rPr>
              <a:t>1 - Responsabilità professionale singola e solidale in tema di obbligazione di mezzi e di risultato</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101240" y="345960"/>
            <a:ext cx="8595000" cy="6104160"/>
          </a:xfrm>
          <a:prstGeom prst="rect">
            <a:avLst/>
          </a:prstGeom>
          <a:noFill/>
          <a:ln w="0">
            <a:noFill/>
          </a:ln>
        </p:spPr>
        <p:txBody>
          <a:bodyPr anchor="t">
            <a:normAutofit/>
          </a:bodyPr>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Nel caso in cui il giudice decida per una condanna solidale e uno o più condannati risulti insolvente o fallisca, la rispettiva quota di risarcimento viene ripartita sui restanti soggetti, in proporzione alle rispettive quote di responsabilità, per cui può accadere che il professionista sia tenuto a pagare, oltre che per la propria responsabilità personale, anche per una o più quote di responsabilità di altri soggetti in forza di questo vincolo solidale.</a:t>
            </a:r>
            <a:endParaRPr b="0" lang="en-US" sz="18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Occorre però tener presente in tema di obbligazioni, che l’art.1292 del codice civile precisa che “L'obbligazione è in solido quando più debitori sono obbligati tutti per la medesima prestazione, in modo che ciascuno può essere costretto all'adempimento per la totalità e l'adempimento da parte di uno libera gli altri; oppure quando tra più creditori ciascuno ha diritto di chiedere l'adempimento dell'intera obbligazione e l'adempimento conseguito da uno di essi libera il debitore verso tutti i creditori”. Quindi per aversi obbligazione solidale è necessario che la pluralità di soggetti abbia assunto la medesima obbligazione e che gli stessi siano tenuti alla medesima prestazione ai fini dell’esecuzione dell’obbligazione stessa.</a:t>
            </a:r>
            <a:endParaRPr b="0" lang="en-US" sz="18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Sarà pertanto compito di un’attenta ed efficace difesa dimostrare l’insussistenza di un’obbligazione solidale tra il professionista e altri soggetti, siano essi professionisti o imprese, e che la responsabilità di ciascun soggetto è ben distinta e separata dalle altre. Inoltre sarà in ogni caso importante che le singole responsabilità vengano identificate percentualmente e non invece genericamente equidistribuit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262160" y="555480"/>
            <a:ext cx="8594640" cy="5624640"/>
          </a:xfrm>
          <a:prstGeom prst="rect">
            <a:avLst/>
          </a:prstGeom>
          <a:noFill/>
          <a:ln w="0">
            <a:noFill/>
          </a:ln>
        </p:spPr>
        <p:txBody>
          <a:bodyPr anchor="t">
            <a:normAutofit/>
          </a:bodyPr>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Dal punto di vista assicurativo occorre prestare molta attenzione poiché la maggior parte delle polizze di responsabilità civile professionale rispondono solo per la quota di responsabilità propria dell’assicurato con esclusione di qualsiasi quota solidale prevedendo clausole di questo tipo: “L'assicurazione vale esclusivamente per la personale responsabilità dell'assicurato. In caso di responsabilità solidale dell'assicurato con altri soggetti, gli assicuratori risponderanno soltanto per la quota di pertinenza dell'assicurato stesso.» oppure «L'assicurazione è limitata alla sola quota di responsabilità diretta dell'assicurato con esclusione di qualsiasi responsabilità derivantegli in via di solidarietà». In questo caso il professionista condannato solidalmente dovrà pagare di tasca propria la parte di risarcimento di altri coobbligati che risultino insolventi o falliti.</a:t>
            </a:r>
            <a:endParaRPr b="0" lang="en-US" sz="17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Nella scelta della polizza professionale occorre quindi tener presente anche questo aspetto e scegliere una polizza che copra la responsabilità solidale senza limitazioni sia per la quota di responsabilità propria che eventuali quote solidali ovvero con clausole di questo tipo: ”Fermo restando gli altri termini, limiti e condizioni di polizza, in caso di responsabilità solidale dell'assicurato con altri soggetti, gli assicuratori risponderanno di tutto quanto dovuto dall'assicurato, fermo il diritto di regresso nei confronti dei terzi responsabili”</a:t>
            </a:r>
            <a:endParaRPr b="0" lang="en-US" sz="17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Naturalmente, anche nel caso in cui la polizza copra interamente la responsabilità solidale, è sempre e comunque estremamente negativo che sulle spalle del professionista rimanga il pagamento di un ingente risarcimento per colpa di soggetti terzi in quanto tale risarcimento, anche se originato da responsabilità altrui, contribuirà a renderlo un soggetto a rischio per le compagnie assicurative e quindi una difesa mirata ad evitare tale tipo di condanna è sempre di fondamentale importanza.</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138320" y="1359000"/>
            <a:ext cx="8594640" cy="3990960"/>
          </a:xfrm>
          <a:prstGeom prst="rect">
            <a:avLst/>
          </a:prstGeom>
          <a:noFill/>
          <a:ln w="0">
            <a:noFill/>
          </a:ln>
        </p:spPr>
        <p:txBody>
          <a:bodyPr anchor="t">
            <a:normAutofit/>
          </a:bodyPr>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Un ultimo aspetto su cui vale la pena di richiamare l’attenzione è il caso in cui sia il professionista stesso ad assumersi volontariamente, tramite contratto e/o atto, la responsabilità solidale con altri soggetti (professionisti o imprese) ad esempio nella costituzione di Associazione Temporanea di Professionisti (ATP) o di Associazione Temporanea d’Impresa (ATI).</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In questo caso infatti anche una polizza RC professionale che preveda la copertura della responsabilità solidale non risponderà in quanto l’obbligo è stato assunto volontariamente dal professionista e non deriva da una condanna giudiziale e quindi, in questo caso, la responsabilità rientrerebbe nell’esclusione tipica di tutte le polizze RC professionali relativa agli obblighi contrattuali volontariamente assunti che eccedano le responsabilità derivanti al professionista dalla legg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61800" y="365040"/>
            <a:ext cx="9691560" cy="1278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000000"/>
                </a:solidFill>
                <a:latin typeface="Century Schoolbook"/>
              </a:rPr>
              <a:t> </a:t>
            </a:r>
            <a:r>
              <a:rPr b="1" lang="it-IT" sz="4000" spc="-1" strike="noStrike">
                <a:solidFill>
                  <a:srgbClr val="ff0000"/>
                </a:solidFill>
                <a:latin typeface="Century Schoolbook"/>
              </a:rPr>
              <a:t>La responsabilità penale dei professionisti tecnici </a:t>
            </a:r>
            <a:endParaRPr b="0" lang="en-US" sz="4000" spc="-1" strike="noStrike">
              <a:solidFill>
                <a:srgbClr val="000000"/>
              </a:solidFill>
              <a:latin typeface="Century Schoolbook"/>
            </a:endParaRPr>
          </a:p>
        </p:txBody>
      </p:sp>
      <p:sp>
        <p:nvSpPr>
          <p:cNvPr id="192" name=""/>
          <p:cNvSpPr txBox="1"/>
          <p:nvPr/>
        </p:nvSpPr>
        <p:spPr>
          <a:xfrm>
            <a:off x="1262160" y="1828440"/>
            <a:ext cx="8594640" cy="4351320"/>
          </a:xfrm>
          <a:prstGeom prst="rect">
            <a:avLst/>
          </a:prstGeom>
          <a:noFill/>
          <a:ln w="0">
            <a:noFill/>
          </a:ln>
        </p:spPr>
        <p:txBody>
          <a:bodyPr anchor="t">
            <a:normAutofit/>
          </a:bodyPr>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 </a:t>
            </a:r>
            <a:r>
              <a:rPr b="0" lang="it-IT" sz="1700" spc="-1" strike="noStrike">
                <a:solidFill>
                  <a:srgbClr val="000000"/>
                </a:solidFill>
                <a:latin typeface="Century Schoolbook"/>
              </a:rPr>
              <a:t>L’obbligo assicurativo introdotto dalla L.148/2011 ha come scopo primario la tutela del cliente rispetto al risarcimento di eventuali danni di cui il professionista possa rendersi responsabile nello svolgimento dell’incarico affidatogli (cd. responsabilità civile professionale). </a:t>
            </a:r>
            <a:endParaRPr b="0" lang="en-US" sz="17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La responsabilità del professionista però non si esaurisce all’ambito civile ma può estendersi anche a quello penale. </a:t>
            </a:r>
            <a:endParaRPr b="0" lang="en-US" sz="17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La </a:t>
            </a:r>
            <a:r>
              <a:rPr b="1" lang="it-IT" sz="1700" spc="-1" strike="noStrike">
                <a:solidFill>
                  <a:srgbClr val="000000"/>
                </a:solidFill>
                <a:latin typeface="Century Schoolbook"/>
              </a:rPr>
              <a:t>responsabilità penale </a:t>
            </a:r>
            <a:r>
              <a:rPr b="0" lang="it-IT" sz="1700" spc="-1" strike="noStrike">
                <a:solidFill>
                  <a:srgbClr val="000000"/>
                </a:solidFill>
                <a:latin typeface="Century Schoolbook"/>
              </a:rPr>
              <a:t>insorge nel momento in cui il professionista si renda responsabile di un fatto o di un atto (commissivo od omissivo) individuato dal Codice Penale o da leggi speciali come </a:t>
            </a:r>
            <a:r>
              <a:rPr b="1" lang="it-IT" sz="1700" spc="-1" strike="noStrike">
                <a:solidFill>
                  <a:srgbClr val="000000"/>
                </a:solidFill>
                <a:latin typeface="Century Schoolbook"/>
              </a:rPr>
              <a:t>reato</a:t>
            </a:r>
            <a:r>
              <a:rPr b="0" lang="it-IT" sz="1700" spc="-1" strike="noStrike">
                <a:solidFill>
                  <a:srgbClr val="000000"/>
                </a:solidFill>
                <a:latin typeface="Century Schoolbook"/>
              </a:rPr>
              <a:t>. </a:t>
            </a:r>
            <a:endParaRPr b="0" lang="en-US" sz="17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I reati si dividono, in base alla loro gravità e alla pena, in </a:t>
            </a:r>
            <a:r>
              <a:rPr b="1" lang="it-IT" sz="1700" spc="-1" strike="noStrike">
                <a:solidFill>
                  <a:srgbClr val="000000"/>
                </a:solidFill>
                <a:latin typeface="Century Schoolbook"/>
              </a:rPr>
              <a:t>delitti </a:t>
            </a:r>
            <a:r>
              <a:rPr b="0" lang="it-IT" sz="1700" spc="-1" strike="noStrike">
                <a:solidFill>
                  <a:srgbClr val="000000"/>
                </a:solidFill>
                <a:latin typeface="Century Schoolbook"/>
              </a:rPr>
              <a:t>e </a:t>
            </a:r>
            <a:r>
              <a:rPr b="1" lang="it-IT" sz="1700" spc="-1" strike="noStrike">
                <a:solidFill>
                  <a:srgbClr val="000000"/>
                </a:solidFill>
                <a:latin typeface="Century Schoolbook"/>
              </a:rPr>
              <a:t>contravvenzioni </a:t>
            </a:r>
            <a:r>
              <a:rPr b="0" lang="it-IT" sz="1700" spc="-1" strike="noStrike">
                <a:solidFill>
                  <a:srgbClr val="000000"/>
                </a:solidFill>
                <a:latin typeface="Century Schoolbook"/>
              </a:rPr>
              <a:t>e le pene previste sono di tipo </a:t>
            </a:r>
            <a:r>
              <a:rPr b="1" lang="it-IT" sz="1700" spc="-1" strike="noStrike">
                <a:solidFill>
                  <a:srgbClr val="000000"/>
                </a:solidFill>
                <a:latin typeface="Century Schoolbook"/>
              </a:rPr>
              <a:t>detentivo </a:t>
            </a:r>
            <a:r>
              <a:rPr b="0" lang="it-IT" sz="1700" spc="-1" strike="noStrike">
                <a:solidFill>
                  <a:srgbClr val="000000"/>
                </a:solidFill>
                <a:latin typeface="Century Schoolbook"/>
              </a:rPr>
              <a:t>(l’</a:t>
            </a:r>
            <a:r>
              <a:rPr b="1" lang="it-IT" sz="1700" spc="-1" strike="noStrike">
                <a:solidFill>
                  <a:srgbClr val="000000"/>
                </a:solidFill>
                <a:latin typeface="Century Schoolbook"/>
              </a:rPr>
              <a:t>ergastolo </a:t>
            </a:r>
            <a:r>
              <a:rPr b="0" lang="it-IT" sz="1700" spc="-1" strike="noStrike">
                <a:solidFill>
                  <a:srgbClr val="000000"/>
                </a:solidFill>
                <a:latin typeface="Century Schoolbook"/>
              </a:rPr>
              <a:t>o la </a:t>
            </a:r>
            <a:r>
              <a:rPr b="1" lang="it-IT" sz="1700" spc="-1" strike="noStrike">
                <a:solidFill>
                  <a:srgbClr val="000000"/>
                </a:solidFill>
                <a:latin typeface="Century Schoolbook"/>
              </a:rPr>
              <a:t>reclusione </a:t>
            </a:r>
            <a:r>
              <a:rPr b="0" lang="it-IT" sz="1700" spc="-1" strike="noStrike">
                <a:solidFill>
                  <a:srgbClr val="000000"/>
                </a:solidFill>
                <a:latin typeface="Century Schoolbook"/>
              </a:rPr>
              <a:t>nel caso di un delitto e l’</a:t>
            </a:r>
            <a:r>
              <a:rPr b="1" lang="it-IT" sz="1700" spc="-1" strike="noStrike">
                <a:solidFill>
                  <a:srgbClr val="000000"/>
                </a:solidFill>
                <a:latin typeface="Century Schoolbook"/>
              </a:rPr>
              <a:t>arresto </a:t>
            </a:r>
            <a:r>
              <a:rPr b="0" lang="it-IT" sz="1700" spc="-1" strike="noStrike">
                <a:solidFill>
                  <a:srgbClr val="000000"/>
                </a:solidFill>
                <a:latin typeface="Century Schoolbook"/>
              </a:rPr>
              <a:t>nel caso di una contravvenzione) o di tipo </a:t>
            </a:r>
            <a:r>
              <a:rPr b="1" lang="it-IT" sz="1700" spc="-1" strike="noStrike">
                <a:solidFill>
                  <a:srgbClr val="000000"/>
                </a:solidFill>
                <a:latin typeface="Century Schoolbook"/>
              </a:rPr>
              <a:t>pecuniario </a:t>
            </a:r>
            <a:r>
              <a:rPr b="0" lang="it-IT" sz="1700" spc="-1" strike="noStrike">
                <a:solidFill>
                  <a:srgbClr val="000000"/>
                </a:solidFill>
                <a:latin typeface="Century Schoolbook"/>
              </a:rPr>
              <a:t>(la </a:t>
            </a:r>
            <a:r>
              <a:rPr b="1" lang="it-IT" sz="1700" spc="-1" strike="noStrike">
                <a:solidFill>
                  <a:srgbClr val="000000"/>
                </a:solidFill>
                <a:latin typeface="Century Schoolbook"/>
              </a:rPr>
              <a:t>multa </a:t>
            </a:r>
            <a:r>
              <a:rPr b="0" lang="it-IT" sz="1700" spc="-1" strike="noStrike">
                <a:solidFill>
                  <a:srgbClr val="000000"/>
                </a:solidFill>
                <a:latin typeface="Century Schoolbook"/>
              </a:rPr>
              <a:t>nel caso di un delitto o l’</a:t>
            </a:r>
            <a:r>
              <a:rPr b="1" lang="it-IT" sz="1700" spc="-1" strike="noStrike">
                <a:solidFill>
                  <a:srgbClr val="000000"/>
                </a:solidFill>
                <a:latin typeface="Century Schoolbook"/>
              </a:rPr>
              <a:t>ammenda </a:t>
            </a:r>
            <a:r>
              <a:rPr b="0" lang="it-IT" sz="1700" spc="-1" strike="noStrike">
                <a:solidFill>
                  <a:srgbClr val="000000"/>
                </a:solidFill>
                <a:latin typeface="Century Schoolbook"/>
              </a:rPr>
              <a:t>nel caso di una contravvenzione)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61800" y="365040"/>
            <a:ext cx="9691560" cy="61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2400" spc="-1" strike="noStrike">
                <a:solidFill>
                  <a:srgbClr val="ff0000"/>
                </a:solidFill>
                <a:latin typeface="Century Schoolbook"/>
              </a:rPr>
              <a:t> </a:t>
            </a:r>
            <a:r>
              <a:rPr b="1" lang="it-IT" sz="2400" spc="-1" strike="noStrike">
                <a:solidFill>
                  <a:srgbClr val="ff0000"/>
                </a:solidFill>
                <a:latin typeface="Century Schoolbook"/>
              </a:rPr>
              <a:t>La responsabilità penale dei professionisti tecnici </a:t>
            </a:r>
            <a:endParaRPr b="0" lang="en-US" sz="2400" spc="-1" strike="noStrike">
              <a:solidFill>
                <a:srgbClr val="000000"/>
              </a:solidFill>
              <a:latin typeface="Century Schoolbook"/>
            </a:endParaRPr>
          </a:p>
        </p:txBody>
      </p:sp>
      <p:sp>
        <p:nvSpPr>
          <p:cNvPr id="194" name=""/>
          <p:cNvSpPr txBox="1"/>
          <p:nvPr/>
        </p:nvSpPr>
        <p:spPr>
          <a:xfrm>
            <a:off x="1262160" y="975960"/>
            <a:ext cx="8594640" cy="5203800"/>
          </a:xfrm>
          <a:prstGeom prst="rect">
            <a:avLst/>
          </a:prstGeom>
          <a:noFill/>
          <a:ln w="0">
            <a:noFill/>
          </a:ln>
        </p:spPr>
        <p:txBody>
          <a:bodyPr anchor="t">
            <a:normAutofit fontScale="98000"/>
          </a:bodyPr>
          <a:p>
            <a:pPr marL="178560" indent="-17856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 </a:t>
            </a:r>
            <a:r>
              <a:rPr b="0" lang="it-IT" sz="1800" spc="-1" strike="noStrike">
                <a:solidFill>
                  <a:srgbClr val="000000"/>
                </a:solidFill>
                <a:latin typeface="Century Schoolbook"/>
              </a:rPr>
              <a:t>I delitti si distinguono dalle contravvenzioni, oltre che per la gravità, anche per la rilevanza dell’elemento psicologico (nelle contravvenzioni rileva, infatti, solo l’elemento oggettivo) per cui si possono individuare: </a:t>
            </a:r>
            <a:endParaRPr b="0" lang="en-US" sz="1800" spc="-1" strike="noStrike">
              <a:solidFill>
                <a:srgbClr val="000000"/>
              </a:solidFill>
              <a:latin typeface="Century Schoolbook"/>
            </a:endParaRPr>
          </a:p>
          <a:p>
            <a:pPr marL="178560" indent="-17856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 </a:t>
            </a:r>
            <a:r>
              <a:rPr b="1" lang="it-IT" sz="1800" spc="-1" strike="noStrike">
                <a:solidFill>
                  <a:srgbClr val="000000"/>
                </a:solidFill>
                <a:latin typeface="Century Schoolbook"/>
              </a:rPr>
              <a:t>delitti colposi</a:t>
            </a:r>
            <a:r>
              <a:rPr b="0" lang="it-IT" sz="1800" spc="-1" strike="noStrike">
                <a:solidFill>
                  <a:srgbClr val="000000"/>
                </a:solidFill>
                <a:latin typeface="Century Schoolbook"/>
              </a:rPr>
              <a:t>, ovvero contro l’intenzione, quando l’evento non è voluto e si verifica a causa di negligenza, imprudenza o imperizia ovvero per inosservanza di leggi o regolamenti; </a:t>
            </a:r>
            <a:endParaRPr b="0" lang="en-US" sz="1800" spc="-1" strike="noStrike">
              <a:solidFill>
                <a:srgbClr val="000000"/>
              </a:solidFill>
              <a:latin typeface="Century Schoolbook"/>
            </a:endParaRPr>
          </a:p>
          <a:p>
            <a:pPr marL="178560" indent="-17856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 </a:t>
            </a:r>
            <a:r>
              <a:rPr b="1" lang="it-IT" sz="1800" spc="-1" strike="noStrike">
                <a:solidFill>
                  <a:srgbClr val="000000"/>
                </a:solidFill>
                <a:latin typeface="Century Schoolbook"/>
              </a:rPr>
              <a:t>delitti preterintenzionali</a:t>
            </a:r>
            <a:r>
              <a:rPr b="0" lang="it-IT" sz="1800" spc="-1" strike="noStrike">
                <a:solidFill>
                  <a:srgbClr val="000000"/>
                </a:solidFill>
                <a:latin typeface="Century Schoolbook"/>
              </a:rPr>
              <a:t>, ovvero oltre l’intenzione, quando dall’azione od omissione deriva un evento più grave di quello voluto; </a:t>
            </a:r>
            <a:endParaRPr b="0" lang="en-US" sz="1800" spc="-1" strike="noStrike">
              <a:solidFill>
                <a:srgbClr val="000000"/>
              </a:solidFill>
              <a:latin typeface="Century Schoolbook"/>
            </a:endParaRPr>
          </a:p>
          <a:p>
            <a:pPr marL="178560" indent="-17856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 </a:t>
            </a:r>
            <a:r>
              <a:rPr b="1" lang="it-IT" sz="1800" spc="-1" strike="noStrike">
                <a:solidFill>
                  <a:srgbClr val="000000"/>
                </a:solidFill>
                <a:latin typeface="Century Schoolbook"/>
              </a:rPr>
              <a:t>delitti dolosi</a:t>
            </a:r>
            <a:r>
              <a:rPr b="0" lang="it-IT" sz="1800" spc="-1" strike="noStrike">
                <a:solidFill>
                  <a:srgbClr val="000000"/>
                </a:solidFill>
                <a:latin typeface="Century Schoolbook"/>
              </a:rPr>
              <a:t>, ovvero secondo l’intenzione, quando l’evento dannoso o pericoloso, risultato dell’azione od omissione, è previsto e voluto dal soggetto. </a:t>
            </a:r>
            <a:endParaRPr b="0" lang="en-US" sz="1800" spc="-1" strike="noStrike">
              <a:solidFill>
                <a:srgbClr val="000000"/>
              </a:solidFill>
              <a:latin typeface="Century Schoolbook"/>
            </a:endParaRPr>
          </a:p>
          <a:p>
            <a:pPr marL="178560" indent="-17856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La principale peculiarità della responsabilità penale, rispetto a quella civile, è quella di essere </a:t>
            </a:r>
            <a:r>
              <a:rPr b="1" lang="it-IT" sz="1800" spc="-1" strike="noStrike">
                <a:solidFill>
                  <a:srgbClr val="000000"/>
                </a:solidFill>
                <a:latin typeface="Century Schoolbook"/>
              </a:rPr>
              <a:t>strettamente personale </a:t>
            </a:r>
            <a:r>
              <a:rPr b="0" lang="it-IT" sz="1800" spc="-1" strike="noStrike">
                <a:solidFill>
                  <a:srgbClr val="000000"/>
                </a:solidFill>
                <a:latin typeface="Century Schoolbook"/>
              </a:rPr>
              <a:t>e </a:t>
            </a:r>
            <a:r>
              <a:rPr b="1" lang="it-IT" sz="1800" spc="-1" strike="noStrike">
                <a:solidFill>
                  <a:srgbClr val="000000"/>
                </a:solidFill>
                <a:latin typeface="Century Schoolbook"/>
              </a:rPr>
              <a:t>non trasferibile, </a:t>
            </a:r>
            <a:r>
              <a:rPr b="0" lang="it-IT" sz="1800" spc="-1" strike="noStrike">
                <a:solidFill>
                  <a:srgbClr val="000000"/>
                </a:solidFill>
                <a:latin typeface="Century Schoolbook"/>
              </a:rPr>
              <a:t>motivo per cui le compagnie assicurative (a cui invece possono essere efficacemente trasferite le conseguenze risarcitorie della responsabilità civile) poco possono di fronte a pene detentive o pecuniarie conseguenti a questo tipo di responsabilità.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61800" y="364680"/>
            <a:ext cx="9691560" cy="623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entury Schoolbook"/>
              </a:rPr>
              <a:t> </a:t>
            </a:r>
            <a:r>
              <a:rPr b="1" lang="it-IT" sz="2800" spc="-1" strike="noStrike">
                <a:solidFill>
                  <a:srgbClr val="ff0000"/>
                </a:solidFill>
                <a:latin typeface="Century Schoolbook"/>
              </a:rPr>
              <a:t>La responsabilità penale dei professionisti tecnici </a:t>
            </a:r>
            <a:endParaRPr b="0" lang="en-US" sz="2800" spc="-1" strike="noStrike">
              <a:solidFill>
                <a:srgbClr val="000000"/>
              </a:solidFill>
              <a:latin typeface="Century Schoolbook"/>
            </a:endParaRPr>
          </a:p>
        </p:txBody>
      </p:sp>
      <p:sp>
        <p:nvSpPr>
          <p:cNvPr id="196" name=""/>
          <p:cNvSpPr txBox="1"/>
          <p:nvPr/>
        </p:nvSpPr>
        <p:spPr>
          <a:xfrm>
            <a:off x="1261800" y="1099800"/>
            <a:ext cx="9327960" cy="5079960"/>
          </a:xfrm>
          <a:prstGeom prst="rect">
            <a:avLst/>
          </a:prstGeom>
          <a:noFill/>
          <a:ln w="0">
            <a:noFill/>
          </a:ln>
        </p:spPr>
        <p:txBody>
          <a:bodyPr anchor="t">
            <a:normAutofit/>
          </a:bodyPr>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182520" indent="-182520">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 </a:t>
            </a:r>
            <a:r>
              <a:rPr b="0" lang="it-IT" sz="1700" spc="-1" strike="noStrike">
                <a:solidFill>
                  <a:srgbClr val="000000"/>
                </a:solidFill>
                <a:latin typeface="Century Schoolbook"/>
              </a:rPr>
              <a:t>L’unica tutela assicurativa possibile per il professionista, in questo ambito, è quella di garantirsi, attraverso la stipula di una polizza di Tutela Legale, la copertura delle spese di difesa e di tutti gli altri costi connessi ad un procedimento penale quali, ad esempio, le spese per attività di investigazione, di perizia e/o consulenza tecnica d’ufficio e di parte, le spese di gestione della vertenza e le spese giudiziarie e processuali, con il solo limite dei reati dolosi. </a:t>
            </a:r>
            <a:endParaRPr b="0" lang="en-US" sz="1700" spc="-1" strike="noStrike">
              <a:solidFill>
                <a:srgbClr val="000000"/>
              </a:solidFill>
              <a:latin typeface="Century Schoolbook"/>
            </a:endParaRPr>
          </a:p>
          <a:p>
            <a:pPr marL="182520" indent="-182520">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Rispetto a questi ultimi infatti la possibilità di copertura delle spese di difesa è possibile solo nei casi di derubricazione del titolo di reato da doloso a colposo, di proscioglimento, di assoluzione con decisione passata in giudicato o in caso di archiviazione per infondatezza della notizia di reato. Diversamente, in caso di conferma di condanna per reato doloso o in caso di prescrizione quando ancora sia in essere l’imputazione dolosa, non essendo il dolo assicurabile in nessun caso (ai sensi dell’art.1900 c.c.), l’assicurato è tenuto a restituire l’anticipo delle spese ottenute dalla compagnia. </a:t>
            </a:r>
            <a:endParaRPr b="0" lang="en-US" sz="1700" spc="-1" strike="noStrike">
              <a:solidFill>
                <a:srgbClr val="000000"/>
              </a:solidFill>
              <a:latin typeface="Century Schoolbook"/>
            </a:endParaRPr>
          </a:p>
          <a:p>
            <a:pPr marL="182520" indent="-182520">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Fortunatamente molti dei reati in cui un architetto può incorrere nello svolgimento della propria professione sono di natura contravvenzionale e, nella maggior parte dei casi, estinguibili con il pagamento dell’ammenda senza iscrizione di alcuna annotazione sul certificato del casellario giudiziale. </a:t>
            </a:r>
            <a:endParaRPr b="0" lang="en-US" sz="17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 </a:t>
            </a:r>
            <a:r>
              <a:rPr b="1" i="1" lang="it-IT" sz="1700" spc="-1" strike="noStrike">
                <a:solidFill>
                  <a:srgbClr val="ff0000"/>
                </a:solidFill>
                <a:latin typeface="Century Schoolbook"/>
              </a:rPr>
              <a:t>Tuttavia, seppur meno frequenti, vi sono anche fattispecie di reato più gravi da non sottovalutare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262160" y="975960"/>
            <a:ext cx="9253440" cy="5203800"/>
          </a:xfrm>
          <a:prstGeom prst="rect">
            <a:avLst/>
          </a:prstGeom>
          <a:noFill/>
          <a:ln w="0">
            <a:noFill/>
          </a:ln>
        </p:spPr>
        <p:txBody>
          <a:bodyPr anchor="t">
            <a:normAutofit/>
          </a:bodyPr>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Quando si pensa alle responsabilità penali in cui può incorrere il professionista tecnico, per esempio, il pensiero va subito alle lesioni personali colpose (art. 590 c.p.) e all’omicidio colposo (art. 589 c.p.), fattispecie di reato di cui l’architetto può essere accusato soprattutto quando rivesta ruoli previsti dal D.Lgs 81/08 e in particolare nel ruolo di coordinatore della sicurezza in fase di esecuzione relativamente a lavori nei cantieri temporanei e mobili.</a:t>
            </a:r>
            <a:endParaRPr b="0" lang="en-US" sz="18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E in effetti avvisi di garanzia per infortuni verificatisi in cantiere con prognosi superiore a 40gg sono tutt’altro che casi isolati, anche perché in materia di sicurezza, l’eventuale colpa concorrente del lavoratore, non costituisce esimente per i soggetti aventi l’obbligo di garantire la sicurezza che abbiano violato prescrizioni in materia antinfortunistica (Cass. Pen. N 10121/2007) con la sola eccezione dei casi in cui sia provata l'abnormità del comportamento del lavoratore infortunato e sia provato che proprio questa abnormità abbia causato l'evento infortunistico (Cass. Pen. n. 13763/2011).</a:t>
            </a:r>
            <a:endParaRPr b="0" lang="en-US" sz="18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E l’ambito della sicurezza sui luoghi lavoro non è certo l’unico che possa comportare per i professionisti il rischio di reati gravi.</a:t>
            </a:r>
            <a:endParaRPr b="0" lang="en-US" sz="18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Occorre tener presente infatti che, ai sensi dell’art. 40 c.p., non impedire un evento che si ha l’obbligo giuridico di impedire, equivale a cagionarlo, per cui spesso, in campo professionale, è l’omissione colposa ad essere punita.</a:t>
            </a:r>
            <a:endParaRPr b="0" lang="en-US" sz="1800" spc="-1" strike="noStrike">
              <a:solidFill>
                <a:srgbClr val="000000"/>
              </a:solidFill>
              <a:latin typeface="Century Schoolbook"/>
            </a:endParaRPr>
          </a:p>
        </p:txBody>
      </p:sp>
      <p:sp>
        <p:nvSpPr>
          <p:cNvPr id="198" name="PlaceHolder 1"/>
          <p:cNvSpPr>
            <a:spLocks noGrp="1"/>
          </p:cNvSpPr>
          <p:nvPr>
            <p:ph type="title"/>
          </p:nvPr>
        </p:nvSpPr>
        <p:spPr>
          <a:xfrm>
            <a:off x="1261800" y="365040"/>
            <a:ext cx="9691560" cy="61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2400" spc="-1" strike="noStrike">
                <a:solidFill>
                  <a:srgbClr val="ff0000"/>
                </a:solidFill>
                <a:latin typeface="Century Schoolbook"/>
              </a:rPr>
              <a:t> </a:t>
            </a:r>
            <a:r>
              <a:rPr b="1" lang="it-IT" sz="2400" spc="-1" strike="noStrike">
                <a:solidFill>
                  <a:srgbClr val="ff0000"/>
                </a:solidFill>
                <a:latin typeface="Century Schoolbook"/>
              </a:rPr>
              <a:t>La responsabilità penale dei professionisti tecnici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262160" y="975960"/>
            <a:ext cx="8594640" cy="5203800"/>
          </a:xfrm>
          <a:prstGeom prst="rect">
            <a:avLst/>
          </a:prstGeom>
          <a:noFill/>
          <a:ln w="0">
            <a:noFill/>
          </a:ln>
        </p:spPr>
        <p:txBody>
          <a:bodyPr anchor="t">
            <a:normAutofit/>
          </a:bodyPr>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In base a questo principio, per esempio, possono essere ascritti ai professionisti reati nello svolgimento di incarichi che comportino l’assunzione di </a:t>
            </a:r>
            <a:r>
              <a:rPr b="1" lang="it-IT" sz="1800" spc="-1" strike="noStrike">
                <a:solidFill>
                  <a:srgbClr val="000000"/>
                </a:solidFill>
                <a:latin typeface="Century Schoolbook"/>
              </a:rPr>
              <a:t>posizioni di garanzia</a:t>
            </a:r>
            <a:r>
              <a:rPr b="0" lang="it-IT" sz="1800" spc="-1" strike="noStrike">
                <a:solidFill>
                  <a:srgbClr val="000000"/>
                </a:solidFill>
                <a:latin typeface="Century Schoolbook"/>
              </a:rPr>
              <a:t>, perché proprio in virtù di tale posizione, l’architetto assume l’obbligo giuridico di impedire l’evento dannoso o anche solo pericoloso, che potrebbe ipoteticamente verificarsi. </a:t>
            </a:r>
            <a:endParaRPr b="0" lang="en-US" sz="18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Ricoprono posizioni di garanzia, per esempio, il </a:t>
            </a:r>
            <a:r>
              <a:rPr b="1" lang="it-IT" sz="1800" spc="-1" strike="noStrike">
                <a:solidFill>
                  <a:srgbClr val="000000"/>
                </a:solidFill>
                <a:latin typeface="Century Schoolbook"/>
              </a:rPr>
              <a:t>direttore dei lavori</a:t>
            </a:r>
            <a:r>
              <a:rPr b="0" lang="it-IT" sz="1800" spc="-1" strike="noStrike">
                <a:solidFill>
                  <a:srgbClr val="000000"/>
                </a:solidFill>
                <a:latin typeface="Century Schoolbook"/>
              </a:rPr>
              <a:t>, </a:t>
            </a:r>
            <a:r>
              <a:rPr b="1" lang="it-IT" sz="1800" spc="-1" strike="noStrike">
                <a:solidFill>
                  <a:srgbClr val="000000"/>
                </a:solidFill>
                <a:latin typeface="Century Schoolbook"/>
              </a:rPr>
              <a:t>il collaudatore</a:t>
            </a:r>
            <a:r>
              <a:rPr b="0" lang="it-IT" sz="1800" spc="-1" strike="noStrike">
                <a:solidFill>
                  <a:srgbClr val="000000"/>
                </a:solidFill>
                <a:latin typeface="Century Schoolbook"/>
              </a:rPr>
              <a:t>, </a:t>
            </a:r>
            <a:r>
              <a:rPr b="1" lang="it-IT" sz="1800" spc="-1" strike="noStrike">
                <a:solidFill>
                  <a:srgbClr val="000000"/>
                </a:solidFill>
                <a:latin typeface="Century Schoolbook"/>
              </a:rPr>
              <a:t>il certificatore</a:t>
            </a:r>
            <a:r>
              <a:rPr b="0" lang="it-IT" sz="1800" spc="-1" strike="noStrike">
                <a:solidFill>
                  <a:srgbClr val="000000"/>
                </a:solidFill>
                <a:latin typeface="Century Schoolbook"/>
              </a:rPr>
              <a:t>, </a:t>
            </a:r>
            <a:r>
              <a:rPr b="1" lang="it-IT" sz="1800" spc="-1" strike="noStrike">
                <a:solidFill>
                  <a:srgbClr val="000000"/>
                </a:solidFill>
                <a:latin typeface="Century Schoolbook"/>
              </a:rPr>
              <a:t>l’asseveratore</a:t>
            </a:r>
            <a:r>
              <a:rPr b="0" lang="it-IT" sz="1800" spc="-1" strike="noStrike">
                <a:solidFill>
                  <a:srgbClr val="000000"/>
                </a:solidFill>
                <a:latin typeface="Century Schoolbook"/>
              </a:rPr>
              <a:t>, </a:t>
            </a:r>
            <a:r>
              <a:rPr b="1" lang="it-IT" sz="1800" spc="-1" strike="noStrike">
                <a:solidFill>
                  <a:srgbClr val="000000"/>
                </a:solidFill>
                <a:latin typeface="Century Schoolbook"/>
              </a:rPr>
              <a:t>il consulente tecnico d’ufficio</a:t>
            </a:r>
            <a:r>
              <a:rPr b="0" lang="it-IT" sz="1800" spc="-1" strike="noStrike">
                <a:solidFill>
                  <a:srgbClr val="000000"/>
                </a:solidFill>
                <a:latin typeface="Century Schoolbook"/>
              </a:rPr>
              <a:t>. </a:t>
            </a:r>
            <a:endParaRPr b="0" lang="en-US" sz="18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A quanto sopra va aggiunto che, per l’insorgenza della responsabilità penale, non serve necessariamente il reale e concreto verificarsi di un evento perché esistono anche reati di mero pericolo, motivo per cui, soprattutto relativamente alla professione di architetto, è possibile incorrere in fattispecie penali anche nel caso in cui, nello svolgimento della propria professione, si metta in pericolo l’incolumità pubblica. </a:t>
            </a:r>
            <a:endParaRPr b="0" lang="en-US" sz="1800" spc="-1" strike="noStrike">
              <a:solidFill>
                <a:srgbClr val="000000"/>
              </a:solidFill>
              <a:latin typeface="Century Schoolbook"/>
            </a:endParaRPr>
          </a:p>
          <a:p>
            <a:pPr marL="182520" indent="-182520">
              <a:lnSpc>
                <a:spcPct val="8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E’ il caso ad esempio degli ingegneri strutturisti il cui errore di calcolo potrebbe essere causa di rovina parziale o totale di una costruzione con conseguente pericolo per la pubblica incolumità, soprattutto nel caso di eventi sismici che mettano a prova i progetti strutturali. </a:t>
            </a:r>
            <a:endParaRPr b="0" lang="en-US" sz="1800" spc="-1" strike="noStrike">
              <a:solidFill>
                <a:srgbClr val="000000"/>
              </a:solidFill>
              <a:latin typeface="Century Schoolbook"/>
            </a:endParaRPr>
          </a:p>
        </p:txBody>
      </p:sp>
      <p:sp>
        <p:nvSpPr>
          <p:cNvPr id="200" name="PlaceHolder 1"/>
          <p:cNvSpPr>
            <a:spLocks noGrp="1"/>
          </p:cNvSpPr>
          <p:nvPr>
            <p:ph type="title"/>
          </p:nvPr>
        </p:nvSpPr>
        <p:spPr>
          <a:xfrm>
            <a:off x="1261800" y="365040"/>
            <a:ext cx="9691560" cy="61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2400" spc="-1" strike="noStrike">
                <a:solidFill>
                  <a:srgbClr val="ff0000"/>
                </a:solidFill>
                <a:latin typeface="Century Schoolbook"/>
              </a:rPr>
              <a:t> </a:t>
            </a:r>
            <a:r>
              <a:rPr b="1" lang="it-IT" sz="2400" spc="-1" strike="noStrike">
                <a:solidFill>
                  <a:srgbClr val="ff0000"/>
                </a:solidFill>
                <a:latin typeface="Century Schoolbook"/>
              </a:rPr>
              <a:t>La responsabilità penale dei professionisti tecnici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61800" y="365040"/>
            <a:ext cx="969156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entury Schoolbook"/>
              </a:rPr>
              <a:t>Responsabilità professionale alla luce del decreto SCIA 25/11/2016 n°222</a:t>
            </a:r>
            <a:endParaRPr b="0" lang="en-US" sz="4400" spc="-1" strike="noStrike">
              <a:solidFill>
                <a:srgbClr val="000000"/>
              </a:solidFill>
              <a:latin typeface="Century Schoolbook"/>
            </a:endParaRPr>
          </a:p>
        </p:txBody>
      </p:sp>
      <p:sp>
        <p:nvSpPr>
          <p:cNvPr id="202" name=""/>
          <p:cNvSpPr txBox="1"/>
          <p:nvPr/>
        </p:nvSpPr>
        <p:spPr>
          <a:xfrm>
            <a:off x="1262160" y="1828440"/>
            <a:ext cx="8594640" cy="4351320"/>
          </a:xfrm>
          <a:prstGeom prst="rect">
            <a:avLst/>
          </a:prstGeom>
          <a:noFill/>
          <a:ln w="0">
            <a:noFill/>
          </a:ln>
        </p:spPr>
        <p:txBody>
          <a:bodyPr anchor="t">
            <a:normAutofit/>
          </a:bodyPr>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22222"/>
                </a:solidFill>
                <a:latin typeface="Arial"/>
                <a:ea typeface="Times New Roman"/>
              </a:rPr>
              <a:t>In relazione a questo, è opportuno menzionare l'articolo 2236 del codice civile, inserito nel Capo II "delle professioni intellettuali", del Titolo III "del lavoro autonomo", del Libro V "del lavoro", rubricato "responsabilità del prestatore d'opera", che recita testualmente:</a:t>
            </a:r>
            <a:br>
              <a:rPr sz="1400"/>
            </a:br>
            <a:r>
              <a:rPr b="0" lang="it-IT" sz="1400" spc="-1" strike="noStrike">
                <a:solidFill>
                  <a:srgbClr val="222222"/>
                </a:solidFill>
                <a:latin typeface="Arial"/>
                <a:ea typeface="Times New Roman"/>
              </a:rPr>
              <a:t>"</a:t>
            </a:r>
            <a:r>
              <a:rPr b="0" i="1" lang="it-IT" sz="1400" spc="-1" strike="noStrike">
                <a:solidFill>
                  <a:srgbClr val="222222"/>
                </a:solidFill>
                <a:latin typeface="Arial"/>
                <a:ea typeface="Times New Roman"/>
              </a:rPr>
              <a:t>S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la</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prestazion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implica</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la</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soluzion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problem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tecnic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special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ifficoltà,</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il</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prestatore d'opera</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non</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rispond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e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ann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se</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non</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in</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caso</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i</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dolo</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o</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colpa</a:t>
            </a:r>
            <a:r>
              <a:rPr b="0" lang="it-IT" sz="1400" spc="-1" strike="noStrike">
                <a:solidFill>
                  <a:srgbClr val="222222"/>
                </a:solidFill>
                <a:latin typeface="Arial"/>
                <a:ea typeface="Times New Roman"/>
              </a:rPr>
              <a:t> </a:t>
            </a:r>
            <a:r>
              <a:rPr b="0" i="1" lang="it-IT" sz="1400" spc="-1" strike="noStrike">
                <a:solidFill>
                  <a:srgbClr val="222222"/>
                </a:solidFill>
                <a:latin typeface="Arial"/>
                <a:ea typeface="Times New Roman"/>
              </a:rPr>
              <a:t>grave</a:t>
            </a:r>
            <a:r>
              <a:rPr b="0" lang="it-IT" sz="1400" spc="-1" strike="noStrike">
                <a:solidFill>
                  <a:srgbClr val="222222"/>
                </a:solidFill>
                <a:latin typeface="Arial"/>
                <a:ea typeface="Times New Roman"/>
              </a:rPr>
              <a:t>".</a:t>
            </a:r>
            <a:br>
              <a:rPr sz="1400"/>
            </a:br>
            <a:r>
              <a:rPr b="0" lang="it-IT" sz="1400" spc="-1" strike="noStrike">
                <a:solidFill>
                  <a:srgbClr val="222222"/>
                </a:solidFill>
                <a:latin typeface="Arial"/>
                <a:ea typeface="Times New Roman"/>
              </a:rPr>
              <a:t>Secondo l'interpretazione più accreditata, questa norma esclude la responsabilità del prestatore d'opera in relazione all'insuccesso della prestazione che consegue alla mancata applicazione di soluzioni tecniche non ancora consolidate nella pratica, o alla scelta tra soluzioni alternative la quale validità sia ancora oggetto di dibattito nella comunità professionale o scientifica, alla quale si riferiscono.</a:t>
            </a:r>
            <a:br>
              <a:rPr sz="1400"/>
            </a:br>
            <a:r>
              <a:rPr b="0" lang="it-IT" sz="1400" spc="-1" strike="noStrike">
                <a:solidFill>
                  <a:srgbClr val="222222"/>
                </a:solidFill>
                <a:latin typeface="Arial"/>
                <a:ea typeface="Times New Roman"/>
              </a:rPr>
              <a:t>La letteratura prevalente esclude che la distinzione tra obbligazioni di mezzi e obbligazioni di risultato, metta in discussione l'unità del concetto dell'obbligazione, che nella sua essenza si traduce sempre in un dovere di comportamento riferito alla produzione di un risultato utile al creditore, e lo esclude per due motivi.</a:t>
            </a:r>
            <a:br>
              <a:rPr sz="1400"/>
            </a:br>
            <a:r>
              <a:rPr b="0" lang="it-IT" sz="1400" spc="-1" strike="noStrike">
                <a:solidFill>
                  <a:srgbClr val="222222"/>
                </a:solidFill>
                <a:latin typeface="Arial"/>
                <a:ea typeface="Times New Roman"/>
              </a:rPr>
              <a:t>Il primo è dovuto alla negazione che esistono obbligazioni nelle quali il risultato non dipenda da un dovere di condotta.</a:t>
            </a:r>
            <a:br>
              <a:rPr sz="1400"/>
            </a:br>
            <a:r>
              <a:rPr b="0" lang="it-IT" sz="1400" spc="-1" strike="noStrike">
                <a:solidFill>
                  <a:srgbClr val="222222"/>
                </a:solidFill>
                <a:latin typeface="Arial"/>
                <a:ea typeface="Times New Roman"/>
              </a:rPr>
              <a:t>Il secondo perché esclude che esistano obbligazioni non orientate alla produzione di un risultato utile per il creditore.</a:t>
            </a:r>
            <a:br>
              <a:rPr sz="1400"/>
            </a:br>
            <a:r>
              <a:rPr b="0" lang="it-IT" sz="1400" spc="-1" strike="noStrike">
                <a:solidFill>
                  <a:srgbClr val="222222"/>
                </a:solidFill>
                <a:latin typeface="Arial"/>
                <a:ea typeface="Times New Roman"/>
              </a:rPr>
              <a:t>Le decisioni della più recente giurisprudenza di legittimità, sono allo stesso modo orientate nell'affermare che non esistono obbligazioni nelle quali non sia presente un risultato.</a:t>
            </a: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12800" y="293760"/>
            <a:ext cx="9693360" cy="1077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2800" spc="-1" strike="noStrike">
                <a:solidFill>
                  <a:srgbClr val="ff0000"/>
                </a:solidFill>
                <a:latin typeface="Century Schoolbook"/>
              </a:rPr>
              <a:t>1 - Responsabilità professionale singola e solidale in tema di obbligazione di mezzi e di risultato</a:t>
            </a:r>
            <a:endParaRPr b="0" lang="en-US" sz="2800" spc="-1" strike="noStrike">
              <a:solidFill>
                <a:srgbClr val="000000"/>
              </a:solidFill>
              <a:latin typeface="Century Schoolbook"/>
            </a:endParaRPr>
          </a:p>
        </p:txBody>
      </p:sp>
      <p:sp>
        <p:nvSpPr>
          <p:cNvPr id="175" name=""/>
          <p:cNvSpPr txBox="1"/>
          <p:nvPr/>
        </p:nvSpPr>
        <p:spPr>
          <a:xfrm>
            <a:off x="712800" y="1495080"/>
            <a:ext cx="10112400" cy="5003640"/>
          </a:xfrm>
          <a:prstGeom prst="rect">
            <a:avLst/>
          </a:prstGeom>
          <a:noFill/>
          <a:ln w="0">
            <a:noFill/>
          </a:ln>
        </p:spPr>
        <p:txBody>
          <a:bodyPr anchor="t">
            <a:normAutofit/>
          </a:bodyPr>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Difetti dell'opera: responsabilità al 50% per il direttore dei lavori anche se estromesso.</a:t>
            </a:r>
            <a:endParaRPr b="0" lang="en-US" sz="18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Per il Tribunale di Perugia</a:t>
            </a:r>
            <a:r>
              <a:rPr b="0" lang="it-IT" sz="1400" spc="-1" strike="noStrike">
                <a:solidFill>
                  <a:srgbClr val="000000"/>
                </a:solidFill>
                <a:latin typeface="Tahoma"/>
                <a:ea typeface="Tahoma"/>
              </a:rPr>
              <a:t>, in caso di vizi nell'opera di costruzione, il direttore dei lavori è tenuto a vigilare, per conto del committente, sulla corretta esecuzione dei lavori ed è responsabile al 50% anche se estromesso dall'appaltatore</a:t>
            </a:r>
            <a:endParaRPr b="0" lang="en-US" sz="14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Non si scappa: anche in caso di estromissione, da parte dell'appaltatore, dalla supervisione, il direttore dei lavori è sempre responsabile in solido per i difetti di costruzione (o vizi dell'opera), ai sensi dell'art. 1669 del Codice Civile. Nella fattispecie, il Tribunale di Perugia nella sentenza 1313/2016 dello scorso 9 giugno ha 'fissato' la responsabilità sui difetti riscontrati nella ristrutturazione di un immobile al 50%.</a:t>
            </a:r>
            <a:endParaRPr b="0" lang="en-US" sz="14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La sentenza evidenzia che il direttore dei lavori presta, per conto del committente, "un'opera professionale in esecuzione di un'obbligazione di mezzi e non di risultati ma, essendo chiamato a svolgere la propria attività in situazioni involgenti l'impiego di peculiari competenze tecniche, deve utilizzare le proprie risorse intellettive ed operative per assicurare, relativamente all'opera in corso di realizzazione, il risultato che il committente - preponente si aspetta di conseguire, onde il suo comportamento deve essere valutato non con riferimento al formale concetto di diligenza, ma alla stregua della diligentia quam in concreto".</a:t>
            </a:r>
            <a:endParaRPr b="0" lang="en-US" sz="14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E' quindi obbligo del direttore dei lavori "l'accertamento della conformità sia della progressiva realizzazione dell'opera al progetto", così come "l'adozione di tutti i necessari accorgimenti tecnici volti a garantire la realizzazione dell'opera senza difetti costruttivi".</a:t>
            </a:r>
            <a:endParaRPr b="0" lang="en-US" sz="14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Si tratta, quindi, non di vigilare quotidianamente sul cantiere ma di controllare la realizzazione dell'opera nelle sue varie fasi, con l'obbligo, per il direttore lavori, di "verificare, attraverso periodiche visite e contatti diretti con gli organi tecnici dell'impresa, da attuarsi in relazione a ciascuna di tali fasi, se sono state osservate le regole dell'arte e la corrispondenza dei materiali impiegati".</a:t>
            </a: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262160" y="444600"/>
            <a:ext cx="8594640" cy="5735520"/>
          </a:xfrm>
          <a:prstGeom prst="rect">
            <a:avLst/>
          </a:prstGeom>
          <a:noFill/>
          <a:ln w="0">
            <a:noFill/>
          </a:ln>
        </p:spPr>
        <p:txBody>
          <a:bodyPr anchor="t">
            <a:normAutofit/>
          </a:bodyPr>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22222"/>
                </a:solidFill>
                <a:latin typeface="Arial"/>
                <a:ea typeface="Times New Roman"/>
              </a:rPr>
              <a:t>Questa giurisprudenza, ha più spesso riconosciuto che la distinzione tra obbligazioni di mezzi e obbligazioni di risultato "costituisca il risultato di una elaborazione dogmatica risalente, priva di riscontro normativo e di dubbio fondamento".</a:t>
            </a:r>
            <a:br>
              <a:rPr sz="1800"/>
            </a:br>
            <a:r>
              <a:rPr b="0" lang="it-IT" sz="1800" spc="-1" strike="noStrike">
                <a:solidFill>
                  <a:srgbClr val="222222"/>
                </a:solidFill>
                <a:latin typeface="Arial"/>
                <a:ea typeface="Times New Roman"/>
              </a:rPr>
              <a:t>Il ripudio di questa distinzione viene compiuto in contesti diversi e spesso per avallare soluzioni di carattere interpretativo la quale ragione ispiratrice risiede in valutazioni di concetto che non dipendono dalla natura della prestazione.</a:t>
            </a:r>
            <a:br>
              <a:rPr sz="1800"/>
            </a:br>
            <a:r>
              <a:rPr b="0" lang="it-IT" sz="1800" spc="-1" strike="noStrike">
                <a:solidFill>
                  <a:srgbClr val="222222"/>
                </a:solidFill>
                <a:latin typeface="Arial"/>
                <a:ea typeface="Times New Roman"/>
              </a:rPr>
              <a:t>Questa affermazione, vuole segnalare che il fine della obbligazione è sempre quello di trasferire nella sfera giuridica del debitore una apprezzabile utilità.</a:t>
            </a:r>
            <a:br>
              <a:rPr sz="1800"/>
            </a:br>
            <a:r>
              <a:rPr b="0" lang="it-IT" sz="1800" spc="-1" strike="noStrike">
                <a:solidFill>
                  <a:srgbClr val="222222"/>
                </a:solidFill>
                <a:latin typeface="Arial"/>
                <a:ea typeface="Times New Roman"/>
              </a:rPr>
              <a:t>In questo contesto, bisogna rilevare che in letteratura ci sono opinioni discordanti tra le differenze che esistono tra le prestazioni d'opera manuale, che vengono tipicamente considerate di risultato le prestazioni d'opera intellettuale che si usano qualificare obbligazioni di mezzi.</a:t>
            </a:r>
            <a:br>
              <a:rPr sz="1800"/>
            </a:br>
            <a:r>
              <a:rPr b="0" lang="it-IT" sz="1800" spc="-1" strike="noStrike">
                <a:solidFill>
                  <a:srgbClr val="222222"/>
                </a:solidFill>
                <a:latin typeface="Arial"/>
                <a:ea typeface="Times New Roman"/>
              </a:rPr>
              <a:t>Una obbligazione che riguarda l’esercizio di un’attività professionale è un’obbligazione di mezzi, ma in certi casi può assumere la caratteristica di un’obbligazione di risultato.</a:t>
            </a:r>
            <a:br>
              <a:rPr sz="1800"/>
            </a:br>
            <a:r>
              <a:rPr b="0" lang="it-IT" sz="1800" spc="-1" strike="noStrike">
                <a:solidFill>
                  <a:srgbClr val="222222"/>
                </a:solidFill>
                <a:latin typeface="Arial"/>
                <a:ea typeface="Times New Roman"/>
              </a:rPr>
              <a:t>Ad esempio:</a:t>
            </a:r>
            <a:br>
              <a:rPr sz="1800"/>
            </a:br>
            <a:r>
              <a:rPr b="0" lang="it-IT" sz="1800" spc="-1" strike="noStrike">
                <a:solidFill>
                  <a:srgbClr val="222222"/>
                </a:solidFill>
                <a:latin typeface="Arial"/>
                <a:ea typeface="Times New Roman"/>
              </a:rPr>
              <a:t>la prestazione dell’ architetto al quale è affidato un progetto di ristrutturazione.</a:t>
            </a:r>
            <a:br>
              <a:rPr sz="1800"/>
            </a:br>
            <a:r>
              <a:rPr b="0" lang="it-IT" sz="1800" spc="-1" strike="noStrike">
                <a:solidFill>
                  <a:srgbClr val="222222"/>
                </a:solidFill>
                <a:latin typeface="Arial"/>
                <a:ea typeface="Times New Roman"/>
              </a:rPr>
              <a:t>Egli è debitore di un’obbligazione di risultato, cioè la realizzazione del progetto.</a:t>
            </a:r>
            <a:br>
              <a:rPr sz="1800"/>
            </a:br>
            <a:r>
              <a:rPr b="0" lang="it-IT" sz="1800" spc="-1" strike="noStrike">
                <a:solidFill>
                  <a:srgbClr val="222222"/>
                </a:solidFill>
                <a:latin typeface="Arial"/>
                <a:ea typeface="Times New Roman"/>
              </a:rPr>
              <a:t>La prestazione è legata a un risultato definito ed è dotata di una sua autonoma utilità.</a:t>
            </a:r>
            <a:br>
              <a:rPr sz="1800"/>
            </a:br>
            <a:r>
              <a:rPr b="0" lang="it-IT" sz="1800" spc="-1" strike="noStrike">
                <a:solidFill>
                  <a:srgbClr val="222222"/>
                </a:solidFill>
                <a:latin typeface="Arial"/>
                <a:ea typeface="Times New Roman"/>
              </a:rPr>
              <a:t>Si è da qui tratta la conseguenza dell’applicabilità delle disposizioni poste dall’art 2226 del codice civile, in particolare quelle sulla prescrizione e decadenza, in relazione alla denuncia di vizi, anche alla prestazione di opera intellettual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262160" y="580680"/>
            <a:ext cx="8594640" cy="5599080"/>
          </a:xfrm>
          <a:prstGeom prst="rect">
            <a:avLst/>
          </a:prstGeom>
          <a:noFill/>
          <a:ln w="0">
            <a:noFill/>
          </a:ln>
        </p:spPr>
        <p:txBody>
          <a:bodyPr anchor="t">
            <a:normAutofit/>
          </a:bodyPr>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22222"/>
                </a:solidFill>
                <a:latin typeface="Arial"/>
                <a:ea typeface="Times New Roman"/>
              </a:rPr>
              <a:t>Altro esempio:</a:t>
            </a:r>
            <a:br>
              <a:rPr sz="1800"/>
            </a:br>
            <a:r>
              <a:rPr b="0" lang="it-IT" sz="1800" spc="-1" strike="noStrike">
                <a:solidFill>
                  <a:srgbClr val="222222"/>
                </a:solidFill>
                <a:latin typeface="Arial"/>
                <a:ea typeface="Times New Roman"/>
              </a:rPr>
              <a:t>la responsabilità dell’appaltatore, è disciplinata da apposite norme codicistiche, gli articoli 1667 e 1668, che non dispongono niente per il progettista, nei confronti del quale devono valere le regole in tema di inadempimento, e cioè, le norme sulle prestazioni d’opera e sulle professioni intellettuali dall’art 2222 all’art 2226 del codice civile.</a:t>
            </a:r>
            <a:br>
              <a:rPr sz="1800"/>
            </a:br>
            <a:r>
              <a:rPr b="0" lang="it-IT" sz="1800" spc="-1" strike="noStrike">
                <a:solidFill>
                  <a:srgbClr val="222222"/>
                </a:solidFill>
                <a:latin typeface="Arial"/>
                <a:ea typeface="Times New Roman"/>
              </a:rPr>
              <a:t>IL professionista si deve comportare secondo le comuni regole di correttezza e diligenza, ai sensi degli articoli art 1176 e 1218 del codice civile.</a:t>
            </a:r>
            <a:br>
              <a:rPr sz="1800"/>
            </a:br>
            <a:r>
              <a:rPr b="0" lang="it-IT" sz="1800" spc="-1" strike="noStrike">
                <a:solidFill>
                  <a:srgbClr val="222222"/>
                </a:solidFill>
                <a:latin typeface="Arial"/>
                <a:ea typeface="Times New Roman"/>
              </a:rPr>
              <a:t>Il regime di responsabilità del professionista non muta, e la distinzione tra obbligazioni di mezzi e obbligazioni di risultato non ha nessuna incidenza sul regime di responsabilità dove è richiesto al professionista di attenersi a parametri di professionalità molto rigidi.</a:t>
            </a:r>
            <a:br>
              <a:rPr sz="1800"/>
            </a:br>
            <a:r>
              <a:rPr b="0" lang="it-IT" sz="1800" spc="-1" strike="noStrike">
                <a:solidFill>
                  <a:srgbClr val="222222"/>
                </a:solidFill>
                <a:latin typeface="Arial"/>
                <a:ea typeface="Times New Roman"/>
              </a:rPr>
              <a:t>In questo senso, trattandosi di una prestazione intellettuale, quella del progettista, della quale all’esempio sopra scritto, è stata qualificata dalla giurisprudenza come un’ obbligazione di risultato.</a:t>
            </a:r>
            <a:br>
              <a:rPr sz="1800"/>
            </a:br>
            <a:r>
              <a:rPr b="0" lang="it-IT" sz="1800" spc="-1" strike="noStrike">
                <a:solidFill>
                  <a:srgbClr val="222222"/>
                </a:solidFill>
                <a:latin typeface="Arial"/>
                <a:ea typeface="Times New Roman"/>
              </a:rPr>
              <a:t>La distinzione tra le obbligazioni di mezzi e di risultato, anche se esiste esclusivamente nell’ambito delle obbligazioni di fare, ha sempre generato questioni interpretative rilevanti in relazione all’oggetto dell’obbligazione, all’onere della prova, al contenuto stesso dell’obbligazione.</a:t>
            </a:r>
            <a:br>
              <a:rPr sz="1800"/>
            </a:br>
            <a:r>
              <a:rPr b="0" lang="it-IT" sz="1800" spc="-1" strike="noStrike">
                <a:solidFill>
                  <a:srgbClr val="222222"/>
                </a:solidFill>
                <a:latin typeface="Arial"/>
                <a:ea typeface="Times New Roman"/>
              </a:rPr>
              <a:t>Nelle obbligazioni di mezzi, la diligenza è il contenuto stesso del vincolo, nelle obbligazioni di risultato è il criterio di controllo e non il risultato del comportamento del creditor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262160" y="1828440"/>
            <a:ext cx="8594640" cy="4732200"/>
          </a:xfrm>
          <a:prstGeom prst="rect">
            <a:avLst/>
          </a:prstGeom>
          <a:noFill/>
          <a:ln w="0">
            <a:noFill/>
          </a:ln>
        </p:spPr>
        <p:txBody>
          <a:bodyPr anchor="t">
            <a:normAutofit/>
          </a:bodyPr>
          <a:p>
            <a:pPr marL="182520" indent="-182520">
              <a:lnSpc>
                <a:spcPct val="75000"/>
              </a:lnSpc>
              <a:spcBef>
                <a:spcPts val="1400"/>
              </a:spcBef>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Times New Roman"/>
              </a:rPr>
              <a:t>Poiché la nostra professione comporta, secondo la giurisprudenza vigente e sopravveniente, tanto una obbligazione di risultato, quanto una obbligazione di mezzi, la presentazione di una pratica tramite il ricorso ai  Titoli abilitativi autocertificati (C.I.L.A., S.C.I.A. ecc) comporta una obbligazione SEMPRE ANCHE di risultato e non solo di mezzi.</a:t>
            </a:r>
            <a:endParaRPr b="0" lang="en-US" sz="1700" spc="-1" strike="noStrike">
              <a:solidFill>
                <a:srgbClr val="000000"/>
              </a:solidFill>
              <a:latin typeface="Century Schoolbook"/>
            </a:endParaRPr>
          </a:p>
          <a:p>
            <a:pPr marL="182520" indent="-182520">
              <a:lnSpc>
                <a:spcPct val="75000"/>
              </a:lnSpc>
              <a:spcBef>
                <a:spcPts val="1400"/>
              </a:spcBef>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Times New Roman"/>
              </a:rPr>
              <a:t>Le conseguenze deontologiche derivanti da tale situazione ed il DIVERSO RUOLO che ne derivano, oltre al maggiore impegno da profondere diventando “sostituti” del responsabile del procedimento, cui resta il compito della mera verifica (tecnico comunale) devono trovare riscontro in fase di richiesta del corrispettivo. Tale ruolo radicalmente diverso rispetto al passato, impone un atteggiamento radicalmente diverso rispetto alla professione ed al suo compenso, per il rischio e l’onere che da queste procedure derivano. </a:t>
            </a:r>
            <a:endParaRPr b="0" lang="en-US" sz="1700" spc="-1" strike="noStrike">
              <a:solidFill>
                <a:srgbClr val="000000"/>
              </a:solidFill>
              <a:latin typeface="Century Schoolbook"/>
            </a:endParaRPr>
          </a:p>
          <a:p>
            <a:pPr marL="182520" indent="-182520">
              <a:lnSpc>
                <a:spcPct val="75000"/>
              </a:lnSpc>
              <a:spcBef>
                <a:spcPts val="1400"/>
              </a:spcBef>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Times New Roman"/>
              </a:rPr>
              <a:t>La asseverazione errata, anche se solo “colposa” e non “dolosa” si configura come illecito PENALE di falsa attestazione ex. Articolo 495 Codice Penale: </a:t>
            </a:r>
            <a:r>
              <a:rPr b="0" i="1" lang="it-IT" sz="1700" spc="-1" strike="noStrike">
                <a:solidFill>
                  <a:srgbClr val="000000"/>
                </a:solidFill>
                <a:latin typeface="Arial"/>
                <a:ea typeface="Times New Roman"/>
              </a:rPr>
              <a:t>falsa attestazione o dichiarazione a un pubblico ufficiale sulla identità o su qualità personali proprie o di altri: “Chiunque dichiara o attesta falsamente al pubblico ufficiale, in un atto pubblico, l’identità o lo stato o altre qualità della propria o dell’altrui persona è punito con la reclusione fino a tre anni. Alla stessa pena soggiace chi commette il fatto in una dichiarazione destinata ad essere riprodotta in un atto pubblico.”</a:t>
            </a:r>
            <a:r>
              <a:rPr b="0" lang="it-IT" sz="1700" spc="-1" strike="noStrike">
                <a:solidFill>
                  <a:srgbClr val="000000"/>
                </a:solidFill>
                <a:latin typeface="Arial"/>
                <a:ea typeface="Times New Roman"/>
              </a:rPr>
              <a:t> </a:t>
            </a:r>
            <a:endParaRPr b="0" lang="en-US" sz="1700" spc="-1" strike="noStrike">
              <a:solidFill>
                <a:srgbClr val="000000"/>
              </a:solidFill>
              <a:latin typeface="Century Schoolbook"/>
            </a:endParaRPr>
          </a:p>
          <a:p>
            <a:pPr marL="182520" indent="-182520">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
        <p:nvSpPr>
          <p:cNvPr id="206" name="PlaceHolder 1"/>
          <p:cNvSpPr>
            <a:spLocks noGrp="1"/>
          </p:cNvSpPr>
          <p:nvPr>
            <p:ph type="title"/>
          </p:nvPr>
        </p:nvSpPr>
        <p:spPr>
          <a:xfrm>
            <a:off x="1261800" y="365040"/>
            <a:ext cx="969156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entury Schoolbook"/>
              </a:rPr>
              <a:t>Responsabilità professionale alla luce del decreto SCIA 25/11/2016 n°222</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262160" y="754200"/>
            <a:ext cx="8594640" cy="5425920"/>
          </a:xfrm>
          <a:prstGeom prst="rect">
            <a:avLst/>
          </a:prstGeom>
          <a:noFill/>
          <a:ln w="0">
            <a:noFill/>
          </a:ln>
        </p:spPr>
        <p:txBody>
          <a:bodyPr anchor="t">
            <a:normAutofit/>
          </a:bodyPr>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Times New Roman"/>
              </a:rPr>
              <a:t>Se consideriamo che “i dirigenti pubblici sono oggi circa 48.000 con una retribuzione media di 79.100 € (calcolo del febbraio 2014) (3.600 euro netti mensili, ma i dirigenti apicali superano i 5.000 euro) ed il loro costo è di circa 3,8 miliardi annui per le casse pubbliche. Di questi, 3,8 miliardi, il 20 per cento circa (cioè 760 milioni annui) sono rappresentati dalla cosiddetta retribuzione di risultato. Che cosa è la retribuzione di risultato? Introdotta alla fine degli anni novanta dalle “leggi Bassanini”, essa voleva superare lo strumento degli scatti di anzianità per introdurre il concetto di raggiungimento degli obiettivi: se a fine anno avrai raggiunto gli obiettivi che l’amministrazione ti ha assegnato, riceverai il premio o parte di esso.</a:t>
            </a:r>
            <a:endParaRPr b="0" lang="en-US" sz="1700" spc="-1" strike="noStrike">
              <a:solidFill>
                <a:srgbClr val="000000"/>
              </a:solidFill>
              <a:latin typeface="Century Schoolbook"/>
            </a:endParaRPr>
          </a:p>
          <a:p>
            <a:pPr marL="182520" indent="-182520">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Times New Roman"/>
              </a:rPr>
              <a:t>Evidentemente il dirigente non patisce il rischio della perdita per intero dello stipendio e neppure del rimborso per perdita patrimoniale, ma solo di quella del premio di risultato, contrariamente al professionista, che pertanto ritengo abbia diritto ad un incremento come sopra proposto, certamente necessario anche a coprire i costi di assicurazione professionale derivanti dal rischio di “perdita patrimoniale” in caso di mancato risultato e concorra a coprire piccola parte delle spese legali derivanti da procedimento penale.</a:t>
            </a:r>
            <a:endParaRPr b="0" lang="en-US" sz="1700" spc="-1" strike="noStrike">
              <a:solidFill>
                <a:srgbClr val="000000"/>
              </a:solidFill>
              <a:latin typeface="Century Schoolbook"/>
            </a:endParaRPr>
          </a:p>
          <a:p>
            <a:pPr marL="182520" indent="-182520">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olo 1" descr=""/>
          <p:cNvPicPr/>
          <p:nvPr/>
        </p:nvPicPr>
        <p:blipFill>
          <a:blip r:embed="rId1"/>
          <a:stretch/>
        </p:blipFill>
        <p:spPr>
          <a:xfrm>
            <a:off x="1152360" y="365040"/>
            <a:ext cx="9942840" cy="2328840"/>
          </a:xfrm>
          <a:prstGeom prst="rect">
            <a:avLst/>
          </a:prstGeom>
          <a:ln w="0">
            <a:noFill/>
          </a:ln>
        </p:spPr>
      </p:pic>
      <p:sp>
        <p:nvSpPr>
          <p:cNvPr id="209" name=""/>
          <p:cNvSpPr txBox="1"/>
          <p:nvPr/>
        </p:nvSpPr>
        <p:spPr>
          <a:xfrm>
            <a:off x="1262160" y="2755800"/>
            <a:ext cx="9439200" cy="3424320"/>
          </a:xfrm>
          <a:prstGeom prst="rect">
            <a:avLst/>
          </a:prstGeom>
          <a:noFill/>
          <a:ln w="0">
            <a:noFill/>
          </a:ln>
        </p:spPr>
        <p:txBody>
          <a:bodyPr anchor="t">
            <a:normAutofit/>
          </a:bodyPr>
          <a:p>
            <a:pPr>
              <a:lnSpc>
                <a:spcPct val="15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33"/>
                </a:solidFill>
                <a:latin typeface="Open Sans"/>
              </a:rPr>
              <a:t>LE LINEE GUIDA SUI GRAVI ILLECITI PROFESSIONALI - </a:t>
            </a:r>
            <a:r>
              <a:rPr b="0" lang="it-IT" sz="1800" spc="-1" strike="noStrike">
                <a:solidFill>
                  <a:srgbClr val="333333"/>
                </a:solidFill>
                <a:latin typeface="Open Sans"/>
              </a:rPr>
              <a:t>Come noto, l’art. 80, comma 5, lettera </a:t>
            </a:r>
            <a:r>
              <a:rPr b="0" i="1" lang="it-IT" sz="1800" spc="-1" strike="noStrike">
                <a:solidFill>
                  <a:srgbClr val="333333"/>
                </a:solidFill>
                <a:latin typeface="Open Sans"/>
              </a:rPr>
              <a:t>c)</a:t>
            </a:r>
            <a:r>
              <a:rPr b="0" lang="it-IT" sz="1800" spc="-1" strike="noStrike">
                <a:solidFill>
                  <a:srgbClr val="333333"/>
                </a:solidFill>
                <a:latin typeface="Open Sans"/>
              </a:rPr>
              <a:t>, del D. Leg.vo. 50/2016 prevede l’esclusione dalla partecipazione alle procedure d’appalto nel caso in cui la stazione appaltante dimostri </a:t>
            </a:r>
            <a:r>
              <a:rPr b="0" i="1" lang="it-IT" sz="1800" spc="-1" strike="noStrike">
                <a:solidFill>
                  <a:srgbClr val="333333"/>
                </a:solidFill>
                <a:latin typeface="Open Sans"/>
              </a:rPr>
              <a:t>“con adeguati mezzi di prova</a:t>
            </a:r>
            <a:r>
              <a:rPr b="0" lang="it-IT" sz="1800" spc="-1" strike="noStrike">
                <a:solidFill>
                  <a:srgbClr val="333333"/>
                </a:solidFill>
                <a:latin typeface="Open Sans"/>
              </a:rPr>
              <a:t> </a:t>
            </a:r>
            <a:r>
              <a:rPr b="0" i="1" lang="it-IT" sz="1800" spc="-1" strike="noStrike">
                <a:solidFill>
                  <a:srgbClr val="333333"/>
                </a:solidFill>
                <a:latin typeface="Open Sans"/>
              </a:rPr>
              <a:t>che l’operatore di è reso colpevole di gravi illeciti professionali, tali da rendere dubbia la sua integrità o affidabilità”</a:t>
            </a:r>
            <a:r>
              <a:rPr b="0" lang="it-IT" sz="1800" spc="-1" strike="noStrike">
                <a:solidFill>
                  <a:srgbClr val="333333"/>
                </a:solidFill>
                <a:latin typeface="Open Sans"/>
              </a:rPr>
              <a:t>. A tal fine, la norma individua - in via esemplificativa - alcune ipotesi idonee a concretare il </a:t>
            </a:r>
            <a:r>
              <a:rPr b="0" i="1" lang="it-IT" sz="1800" spc="-1" strike="noStrike">
                <a:solidFill>
                  <a:srgbClr val="333333"/>
                </a:solidFill>
                <a:latin typeface="Open Sans"/>
              </a:rPr>
              <a:t>“grave illecito professionale”</a:t>
            </a:r>
            <a:r>
              <a:rPr b="0" lang="it-IT" sz="1800" spc="-1" strike="noStrike">
                <a:solidFill>
                  <a:srgbClr val="333333"/>
                </a:solidFill>
                <a:latin typeface="Open Sans"/>
              </a:rPr>
              <a:t>, </a:t>
            </a:r>
            <a:r>
              <a:rPr b="1" lang="it-IT" sz="1800" spc="-1" strike="noStrike">
                <a:solidFill>
                  <a:srgbClr val="333333"/>
                </a:solidFill>
                <a:latin typeface="Open Sans"/>
              </a:rPr>
              <a:t>con conseguenti ripercussioni sul rapporto fiduciario tra stazione appaltante e operatore.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262160" y="580680"/>
            <a:ext cx="8594640" cy="5599080"/>
          </a:xfrm>
          <a:prstGeom prst="rect">
            <a:avLst/>
          </a:prstGeom>
          <a:noFill/>
          <a:ln w="0">
            <a:noFill/>
          </a:ln>
        </p:spPr>
        <p:txBody>
          <a:bodyPr anchor="t">
            <a:normAutofit fontScale="99000"/>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33"/>
                </a:solidFill>
                <a:latin typeface="Open Sans"/>
              </a:rPr>
              <a:t>Tra queste:</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le carenze significative nell’esecuzione di precedenti contratti;</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il tentativo di influenzare indebitamente il processo decisionale della stazione appaltante o di ottenere informazioni riservate ai fini del proprio vantaggio;</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il fornire, anche per negligenza, informazioni false o fuorvianti ovvero l’omettere le informazioni dovute ai fini del corretto espletamento della procedura di selezione.</a:t>
            </a:r>
            <a:endParaRPr b="0" lang="en-US" sz="1800" spc="-1" strike="noStrike">
              <a:solidFill>
                <a:srgbClr val="000000"/>
              </a:solidFill>
              <a:latin typeface="Century Schoolbook"/>
            </a:endParaRPr>
          </a:p>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33"/>
                </a:solidFill>
                <a:latin typeface="Open Sans"/>
              </a:rPr>
              <a:t>Ciò posto le Linee Guida in esame hanno l’obiettivo di:</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precisare i mezzi di prova adeguati a comprovare le predette cause di esclusione;</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individuare quali carenze nell’esecuzione di un precedente contratto d’appalto possano considerarsi significate;</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specificare e circostanziare le fattispecie esemplificative individuate dalla norma;</a:t>
            </a:r>
            <a:endParaRPr b="0" lang="en-US" sz="1800" spc="-1" strike="noStrike">
              <a:solidFill>
                <a:srgbClr val="000000"/>
              </a:solidFill>
              <a:latin typeface="Century Schoolbook"/>
            </a:endParaRPr>
          </a:p>
          <a:p>
            <a:pPr>
              <a:lnSpc>
                <a:spcPct val="9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identificare - sempre in via esemplificativa - ulteriori ipotesi rilevanti.</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262160" y="580680"/>
            <a:ext cx="8594640" cy="5599080"/>
          </a:xfrm>
          <a:prstGeom prst="rect">
            <a:avLst/>
          </a:prstGeom>
          <a:noFill/>
          <a:ln w="0">
            <a:noFill/>
          </a:ln>
        </p:spPr>
        <p:txBody>
          <a:bodyPr anchor="t">
            <a:normAutofit fontScale="97000"/>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Schoolbook"/>
              </a:rPr>
              <a:t>AMBITO DI APPLICAZIONE </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La causa di esclusione in esame si applica ai settori ordinari per le aggiudicazioni sia sopra che sotto soglia, nonché ai settori speciali quando l’ente aggiudicatore è un’amministrazione aggiudicatrice.</a:t>
            </a:r>
            <a:br>
              <a:rPr sz="1800"/>
            </a:br>
            <a:r>
              <a:rPr b="0" lang="it-IT" sz="1800" spc="-1" strike="noStrike">
                <a:solidFill>
                  <a:srgbClr val="333333"/>
                </a:solidFill>
                <a:latin typeface="Open Sans"/>
              </a:rPr>
              <a:t>I motivi di esclusione individuati dalla norma valgono anche ai fini della qualificazione degli esecutori di lavori pubblici, dei subappaltatori, delle imprese ausiliarie e del contraente generale.</a:t>
            </a:r>
            <a:br>
              <a:rPr sz="1800"/>
            </a:br>
            <a:r>
              <a:rPr b="0" lang="it-IT" sz="1800" spc="-1" strike="noStrike">
                <a:solidFill>
                  <a:srgbClr val="333333"/>
                </a:solidFill>
                <a:latin typeface="Open Sans"/>
              </a:rPr>
              <a:t>Sono invece escluse dall’applicazione della causa di esclusione in esame le aziende o società sottoposte a sequestro o confisca </a:t>
            </a:r>
            <a:r>
              <a:rPr b="0" i="1" lang="it-IT" sz="1800" spc="-1" strike="noStrike">
                <a:solidFill>
                  <a:srgbClr val="333333"/>
                </a:solidFill>
                <a:latin typeface="Open Sans"/>
              </a:rPr>
              <a:t>ex</a:t>
            </a:r>
            <a:r>
              <a:rPr b="0" lang="it-IT" sz="1800" spc="-1" strike="noStrike">
                <a:solidFill>
                  <a:srgbClr val="333333"/>
                </a:solidFill>
                <a:latin typeface="Open Sans"/>
              </a:rPr>
              <a:t> art. 12-</a:t>
            </a:r>
            <a:r>
              <a:rPr b="0" i="1" lang="it-IT" sz="1800" spc="-1" strike="noStrike">
                <a:solidFill>
                  <a:srgbClr val="333333"/>
                </a:solidFill>
                <a:latin typeface="Open Sans"/>
              </a:rPr>
              <a:t>sexies</a:t>
            </a:r>
            <a:r>
              <a:rPr b="0" lang="it-IT" sz="1800" spc="-1" strike="noStrike">
                <a:solidFill>
                  <a:srgbClr val="333333"/>
                </a:solidFill>
                <a:latin typeface="Open Sans"/>
              </a:rPr>
              <a:t>, D.L. 306/1992 o L. 575/1965 e affidate a un custode o amministratore giudiziario o finanziario, limitatamente a quelle riferite al periodo precedente a tale affidamento.</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Schoolbook"/>
              </a:rPr>
              <a:t>SITUAZIONI RILEVANTI AI FINI DELL’ESCLUSIONE</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La stazione appaltante deve valutare la commissione di illeciti professionali gravi tali da rendere dubbia l’</a:t>
            </a:r>
            <a:r>
              <a:rPr b="0" i="1" lang="it-IT" sz="1800" spc="-1" strike="noStrike">
                <a:solidFill>
                  <a:srgbClr val="333333"/>
                </a:solidFill>
                <a:latin typeface="Open Sans"/>
              </a:rPr>
              <a:t>integrità</a:t>
            </a:r>
            <a:r>
              <a:rPr b="0" lang="it-IT" sz="1800" spc="-1" strike="noStrike">
                <a:solidFill>
                  <a:srgbClr val="333333"/>
                </a:solidFill>
                <a:latin typeface="Open Sans"/>
              </a:rPr>
              <a:t> del concorrente, intesa come la sua </a:t>
            </a:r>
            <a:r>
              <a:rPr b="1" lang="it-IT" sz="1800" spc="-1" strike="noStrike">
                <a:solidFill>
                  <a:srgbClr val="333333"/>
                </a:solidFill>
                <a:latin typeface="Open Sans"/>
              </a:rPr>
              <a:t>moralità professionale</a:t>
            </a:r>
            <a:r>
              <a:rPr b="0" lang="it-IT" sz="1800" spc="-1" strike="noStrike">
                <a:solidFill>
                  <a:srgbClr val="333333"/>
                </a:solidFill>
                <a:latin typeface="Open Sans"/>
              </a:rPr>
              <a:t> oppure la sua </a:t>
            </a:r>
            <a:r>
              <a:rPr b="0" i="1" lang="it-IT" sz="1800" spc="-1" strike="noStrike">
                <a:solidFill>
                  <a:srgbClr val="333333"/>
                </a:solidFill>
                <a:latin typeface="Open Sans"/>
              </a:rPr>
              <a:t>affidabilità</a:t>
            </a:r>
            <a:r>
              <a:rPr b="0" lang="it-IT" sz="1800" spc="-1" strike="noStrike">
                <a:solidFill>
                  <a:srgbClr val="333333"/>
                </a:solidFill>
                <a:latin typeface="Open Sans"/>
              </a:rPr>
              <a:t>, intesa come la sua </a:t>
            </a:r>
            <a:r>
              <a:rPr b="1" lang="it-IT" sz="1800" spc="-1" strike="noStrike">
                <a:solidFill>
                  <a:srgbClr val="333333"/>
                </a:solidFill>
                <a:latin typeface="Open Sans"/>
              </a:rPr>
              <a:t>reale capacità esecutiva in relazione alla specifica prestazione</a:t>
            </a:r>
            <a:r>
              <a:rPr b="0" lang="it-IT" sz="1800" spc="-1" strike="noStrike">
                <a:solidFill>
                  <a:srgbClr val="333333"/>
                </a:solidFill>
                <a:latin typeface="Open Sans"/>
              </a:rPr>
              <a:t> oggetto di affidament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262160" y="655560"/>
            <a:ext cx="8594640" cy="5524560"/>
          </a:xfrm>
          <a:prstGeom prst="rect">
            <a:avLst/>
          </a:prstGeom>
          <a:noFill/>
          <a:ln w="0">
            <a:noFill/>
          </a:ln>
        </p:spPr>
        <p:txBody>
          <a:bodyPr anchor="t">
            <a:normAutofit/>
          </a:bodyPr>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Al ricorrere dei presupposti suindicati, rilevano quali cause ostative i comportamenti gravi e significativi riscontrati nell’esecuzione di precedenti contratti, anche stipulati con altre amministrazioni, che siano sintomatici di persistenti carenze professionali nell’esecuzione di prestazioni contrattuali. (</a:t>
            </a:r>
            <a:r>
              <a:rPr b="0" i="1" lang="it-IT" sz="1800" spc="-1" strike="noStrike">
                <a:solidFill>
                  <a:srgbClr val="333333"/>
                </a:solidFill>
                <a:latin typeface="Open Sans"/>
              </a:rPr>
              <a:t>per dettagli si veda il paragrafo 2.1.1 delle Linee guida</a:t>
            </a:r>
            <a:r>
              <a:rPr b="0" lang="it-IT" sz="1800" spc="-1" strike="noStrike">
                <a:solidFill>
                  <a:srgbClr val="333333"/>
                </a:solidFill>
                <a:latin typeface="Open Sans"/>
              </a:rPr>
              <a:t>)</a:t>
            </a:r>
            <a:br>
              <a:rPr sz="1800"/>
            </a:br>
            <a:r>
              <a:rPr b="0" lang="it-IT" sz="1800" spc="-1" strike="noStrike">
                <a:solidFill>
                  <a:srgbClr val="333333"/>
                </a:solidFill>
                <a:latin typeface="Open Sans"/>
              </a:rPr>
              <a:t>Rilevano, altresì, i comportamenti posti in essere dal concorrente volontariamente e consapevolmente, al fine di alterare illecitamente la </a:t>
            </a:r>
            <a:r>
              <a:rPr b="0" i="1" lang="it-IT" sz="1800" spc="-1" strike="noStrike">
                <a:solidFill>
                  <a:srgbClr val="333333"/>
                </a:solidFill>
                <a:latin typeface="Open Sans"/>
              </a:rPr>
              <a:t>par condicio</a:t>
            </a:r>
            <a:r>
              <a:rPr b="0" lang="it-IT" sz="1800" spc="-1" strike="noStrike">
                <a:solidFill>
                  <a:srgbClr val="333333"/>
                </a:solidFill>
                <a:latin typeface="Open Sans"/>
              </a:rPr>
              <a:t> tra i concorrenti o di soddisfare illecitamente interessi personali in danno dell’amministrazione aggiudicatrice o di altri partecipanti. (</a:t>
            </a:r>
            <a:r>
              <a:rPr b="0" i="1" lang="it-IT" sz="1800" spc="-1" strike="noStrike">
                <a:solidFill>
                  <a:srgbClr val="333333"/>
                </a:solidFill>
                <a:latin typeface="Open Sans"/>
              </a:rPr>
              <a:t>per dettagli si veda il paragrafo 2.1.2 delle Linee guida</a:t>
            </a:r>
            <a:r>
              <a:rPr b="0" lang="it-IT" sz="1800" spc="-1" strike="noStrike">
                <a:solidFill>
                  <a:srgbClr val="333333"/>
                </a:solidFill>
                <a:latin typeface="Open Sans"/>
              </a:rPr>
              <a:t>)</a:t>
            </a:r>
            <a:br>
              <a:rPr sz="1800"/>
            </a:br>
            <a:r>
              <a:rPr b="0" lang="it-IT" sz="1800" spc="-1" strike="noStrike">
                <a:solidFill>
                  <a:srgbClr val="333333"/>
                </a:solidFill>
                <a:latin typeface="Open Sans"/>
              </a:rPr>
              <a:t>Sono idonei a incidere sull’integrità del concorrente o sulla sua affidabilità: i comportamenti posti in essere con dolo o colpa grave, volti a ingenerare, nell’amministrazione, un convincimento erroneo su una circostanza rilevante ai fini della partecipazione o dell’attribuzione del punteggio (</a:t>
            </a:r>
            <a:r>
              <a:rPr b="0" i="1" lang="it-IT" sz="1800" spc="-1" strike="noStrike">
                <a:solidFill>
                  <a:srgbClr val="333333"/>
                </a:solidFill>
                <a:latin typeface="Open Sans"/>
              </a:rPr>
              <a:t>per dettagli si veda il paragrafo 2.1.1.3 delle Linee guida</a:t>
            </a:r>
            <a:r>
              <a:rPr b="0" lang="it-IT" sz="1800" spc="-1" strike="noStrike">
                <a:solidFill>
                  <a:srgbClr val="333333"/>
                </a:solidFill>
                <a:latin typeface="Open Sans"/>
              </a:rPr>
              <a:t>); i comportamenti contrari al dovere di leale collaborazione che abbiano comportato la mancata sottoscrizione del contratto per fatto doloso o gravemente colposo dell’affidatario e la conseguente escussione della garanzia (</a:t>
            </a:r>
            <a:r>
              <a:rPr b="0" i="1" lang="it-IT" sz="1800" spc="-1" strike="noStrike">
                <a:solidFill>
                  <a:srgbClr val="333333"/>
                </a:solidFill>
                <a:latin typeface="Open Sans"/>
              </a:rPr>
              <a:t>per dettagli si veda il paragrafo 2.1.1.4 delle Linee guida</a:t>
            </a:r>
            <a:r>
              <a:rPr b="0" lang="it-IT" sz="1800" spc="-1" strike="noStrike">
                <a:solidFill>
                  <a:srgbClr val="333333"/>
                </a:solidFill>
                <a:latin typeface="Open Sans"/>
              </a:rPr>
              <a:t>); i provvedimenti di condanna, anche non definitivi, per determinati reati (</a:t>
            </a:r>
            <a:r>
              <a:rPr b="0" i="1" lang="it-IT" sz="1800" spc="-1" strike="noStrike">
                <a:solidFill>
                  <a:srgbClr val="333333"/>
                </a:solidFill>
                <a:latin typeface="Open Sans"/>
              </a:rPr>
              <a:t>per dettagli si veda il paragrafo 2.1.1.5 delle Linee guida</a:t>
            </a:r>
            <a:r>
              <a:rPr b="0" lang="it-IT" sz="1800" spc="-1" strike="noStrike">
                <a:solidFill>
                  <a:srgbClr val="333333"/>
                </a:solidFill>
                <a:latin typeface="Open Sans"/>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262160" y="469800"/>
            <a:ext cx="8594640" cy="5710320"/>
          </a:xfrm>
          <a:prstGeom prst="rect">
            <a:avLst/>
          </a:prstGeom>
          <a:noFill/>
          <a:ln w="0">
            <a:noFill/>
          </a:ln>
        </p:spPr>
        <p:txBody>
          <a:bodyPr anchor="t">
            <a:normAutofit fontScale="99000"/>
          </a:bodyPr>
          <a:p>
            <a:pPr algn="ct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Century Schoolbook"/>
              </a:rPr>
              <a:t>SOGGETTI DA CONSIDERARE AI FINI DELLE VIOLAZIONI </a:t>
            </a:r>
            <a:endParaRPr b="0" lang="en-US" sz="17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La stazione appaltante deve verificare l’assenza delle cause ostative in capo:</a:t>
            </a:r>
            <a:endParaRPr b="0" lang="en-US" sz="18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all’operatore economico, quando i gravi illeciti professionali sono riferibili direttamente allo stesso in quanto persona giuridica;</a:t>
            </a:r>
            <a:endParaRPr b="0" lang="en-US" sz="18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ai soggetti individuati dall’art. 80, comma 3, del Codice quando i comportamenti ostativi sono riferibili esclusivamente a persone fisiche;</a:t>
            </a:r>
            <a:endParaRPr b="0" lang="en-US" sz="18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Open Sans"/>
              </a:rPr>
              <a:t>al subappaltatore nei casi previsti dall’art. 105, comma 6, del Codice.</a:t>
            </a:r>
            <a:endParaRPr b="0" lang="en-US" sz="1800" spc="-1" strike="noStrike">
              <a:solidFill>
                <a:srgbClr val="000000"/>
              </a:solidFill>
              <a:latin typeface="Century Schoolbook"/>
            </a:endParaRPr>
          </a:p>
          <a:p>
            <a:pPr algn="ct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333333"/>
                </a:solidFill>
                <a:latin typeface="Open Sans"/>
              </a:rPr>
              <a:t>MEZZI DI PROVA E CRITERI DI VALUTAZIONE –</a:t>
            </a:r>
            <a:endParaRPr b="0" lang="en-US" sz="1700" spc="-1" strike="noStrike">
              <a:solidFill>
                <a:srgbClr val="000000"/>
              </a:solidFill>
              <a:latin typeface="Century Schoolbook"/>
            </a:endParaRPr>
          </a:p>
          <a:p>
            <a:pPr>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333333"/>
                </a:solidFill>
                <a:latin typeface="Open Sans"/>
              </a:rPr>
              <a:t> </a:t>
            </a:r>
            <a:r>
              <a:rPr b="0" lang="it-IT" sz="1700" spc="-1" strike="noStrike">
                <a:solidFill>
                  <a:srgbClr val="333333"/>
                </a:solidFill>
                <a:latin typeface="Open Sans"/>
              </a:rPr>
              <a:t>Le stazioni appaltanti sono tenute a comunicare all’Autorità, ai fini dell’iscrizione nel Casellario informatico di cui all’art. 213, comma 10, del Codice i provvedimenti dalle stesse adottati e i provvedimenti di condanna emessi in sede giudiziale con riferimento ai contratti dalle stesse affidati idonei a incidere sull’integrità e l’affidabilità dei concorrenti. L’inadempimento dell’obbligo di comunicazione comporta l’applicazione delle sanzioni previste dall’art. 213, comma 13, del Codice.</a:t>
            </a:r>
            <a:br>
              <a:rPr sz="1700"/>
            </a:br>
            <a:r>
              <a:rPr b="0" lang="it-IT" sz="1700" spc="-1" strike="noStrike">
                <a:solidFill>
                  <a:srgbClr val="333333"/>
                </a:solidFill>
                <a:latin typeface="Open Sans"/>
              </a:rPr>
              <a:t>Gli operatori economici, ai fini della partecipazione alle procedure di affidamento, sono tenuti a dichiarare, mediante utilizzo del modello DGUE, tutte le notizie inserite nel Casellario Informatico gestito dall’Autorità astrattamente idonee a porre in dubbio la loro integrità o affidabilità.</a:t>
            </a:r>
            <a:br>
              <a:rPr sz="1700"/>
            </a:br>
            <a:r>
              <a:rPr b="0" lang="it-IT" sz="1700" spc="-1" strike="noStrike">
                <a:solidFill>
                  <a:srgbClr val="333333"/>
                </a:solidFill>
                <a:latin typeface="Open Sans"/>
              </a:rPr>
              <a:t>La commissione di gravi illeciti professionali non può comportare l’esclusione dalle gare per un periodo superiore a tre anni a decorrere dalla data di annotazione della notizia nel Casellario Informatico. L’incidenza del tempo trascorso deve essere valutata dalla stazione appaltante in relazione alle circostanze del caso concreto.</a:t>
            </a:r>
            <a:endParaRPr b="0" lang="en-US" sz="17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Segnaposto contenuto 3" descr=""/>
          <p:cNvPicPr/>
          <p:nvPr/>
        </p:nvPicPr>
        <p:blipFill>
          <a:blip r:embed="rId1"/>
          <a:stretch/>
        </p:blipFill>
        <p:spPr>
          <a:xfrm>
            <a:off x="1262160" y="1889280"/>
            <a:ext cx="9358200" cy="4230360"/>
          </a:xfrm>
          <a:prstGeom prst="rect">
            <a:avLst/>
          </a:prstGeom>
          <a:ln w="0">
            <a:noFill/>
          </a:ln>
        </p:spPr>
      </p:pic>
      <p:sp>
        <p:nvSpPr>
          <p:cNvPr id="177" name="Titolo 1"/>
          <p:cNvSpPr/>
          <p:nvPr/>
        </p:nvSpPr>
        <p:spPr>
          <a:xfrm>
            <a:off x="712800" y="293760"/>
            <a:ext cx="9802800" cy="1325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Century Schoolbook"/>
              </a:rPr>
              <a:t>1 - Responsabilità professionale singola e solidale in tema di obbligazione di mezzi e di risultato</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262160" y="692280"/>
            <a:ext cx="8594640" cy="5967360"/>
          </a:xfrm>
          <a:prstGeom prst="rect">
            <a:avLst/>
          </a:prstGeom>
          <a:noFill/>
          <a:ln w="0">
            <a:noFill/>
          </a:ln>
        </p:spPr>
        <p:txBody>
          <a:bodyPr anchor="t">
            <a:normAutofit/>
          </a:bodyPr>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CONCLUSIONI</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Per l'attore: accertare e dichiarare l'obbligo, solidale e/o ciascuno secondo le proprie responsabilità, di a risarcire i danni relativi alle somme versate in eccesso per i lavori svolti nell'immobile di proprietà dell'attrice, i costi per eliminare i vizi e danni derivanti dai lavori male eseguiti presenti nell 'immobile di sua proprietà, i maggiori costi necessari per il completamento dei lavori, e per l'effetto in solido tra</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loro eia ciascuno secondo le proprie responsabilità, al pagamentoih1f~6fe dell'attrice della somma di € 25.859,57 oltre iva per le spese versate in eccesso, € 8.607, 75 oltre IVA per i costi dei lavori necessari ad eliminare i vizi negli immobili, € 10.000,00 per i maggiori costi che l'attrice dovrà sostenere per il completamento dei lavori il tutto oltre interessi legali dalla data del dovuto al saldo e rivalutazione monetaria. In ogni caso condannare i convenuti, in solido tra loro e/o ciascuno secondo la propria responsabilità, alla refusione in favore dell' attrice </a:t>
            </a:r>
            <a:endParaRPr b="0" lang="en-US" sz="1800" spc="-1" strike="noStrike">
              <a:solidFill>
                <a:srgbClr val="000000"/>
              </a:solidFill>
              <a:latin typeface="Century Schoolbook"/>
            </a:endParaRPr>
          </a:p>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Schoolbook"/>
              </a:rPr>
              <a:t>Concisa esposizione delle ragioni di fatto e di diritto della decisione</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La domanda avanzata da si è rivelata fondata e deve, pertanto, essere</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accolta.</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262160" y="482760"/>
            <a:ext cx="8594640" cy="5697360"/>
          </a:xfrm>
          <a:prstGeom prst="rect">
            <a:avLst/>
          </a:prstGeom>
          <a:noFill/>
          <a:ln w="0">
            <a:noFill/>
          </a:ln>
        </p:spPr>
        <p:txBody>
          <a:bodyPr anchor="t">
            <a:normAutofit/>
          </a:bodyPr>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Dalla documentazione versata in atti e dalle testimonianze raccolte nel corso del giudizio,</a:t>
            </a:r>
            <a:endParaRPr b="0" lang="en-US" sz="1700" spc="-1" strike="noStrike">
              <a:solidFill>
                <a:srgbClr val="000000"/>
              </a:solidFill>
              <a:latin typeface="Century Schoolbook"/>
            </a:endParaRPr>
          </a:p>
          <a:p>
            <a:pPr>
              <a:lnSpc>
                <a:spcPct val="7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risulta accertato ebbe ad assumere la carica di direttore dei lavori, in relazione alla ristrutturazione dell'immobile di proprietà dell'attrice, … risulta inequivocabilmente dalla lettera di incarico (doc. 2 fascicolo parte attrice) sottoscritta dalla predetta professionista, con la quale la stessa veniva incaricata di "redigere e seguire la pratica di ristrutturazione dell'immobile di cui sopra fino al completamento della stessa, nonché progettazione completa e D.L.". Ciò premesso, occorre evidenziare che "in tema di responsabilità conseguente a vizi o difformità dell'opera appaltata, il direttore dei lavori per conto del committente presta un'opera professionale in esecuzione di un'obbligazione di mezzi e non di risultati ma, essendo chiamato a svolgere la propria attività in situazioni involgenti l'impiego di peculiari competenze tecniche, deve utilizzare le proprie risorse intellettive ed operative per assicurare, relativamente all'opera in corso di realizzazione, il risultato che il committente - preponente si aspetta di conseguire onde il suo comportamento deve essere valutato non con riferimento al normale concetto di diligenza, ma alla stregua della "diligentia quam in concreto"; rientrano pertanto nelle obbligazioni del direttore dei lavori l'accertamento della conformità sia della progressiva realizzazione dell'opera al progetto, sia delle modalità dell'esecuzione di essa al capitolato e/o alle regole della tecnica, nonché l'adozione di tutti i necessari accorgimenti tecnici volti a garantire la realizzazione dell'opera senza difetti costruttivi; pertanto, non si sottrae a responsabilità il professionista che ometta di vigilare e di impartire le opportune disposizioni al riguardo, nonché di controllarne l'ottemperanza da parte dell'appaltatore e di riferirne al committente</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Immagine 3" descr=""/>
          <p:cNvPicPr/>
          <p:nvPr/>
        </p:nvPicPr>
        <p:blipFill>
          <a:blip r:embed="rId1"/>
          <a:stretch/>
        </p:blipFill>
        <p:spPr>
          <a:xfrm>
            <a:off x="728640" y="476280"/>
            <a:ext cx="9626760" cy="895320"/>
          </a:xfrm>
          <a:prstGeom prst="rect">
            <a:avLst/>
          </a:prstGeom>
          <a:ln w="0">
            <a:noFill/>
          </a:ln>
        </p:spPr>
      </p:pic>
      <p:sp>
        <p:nvSpPr>
          <p:cNvPr id="181" name=""/>
          <p:cNvSpPr txBox="1"/>
          <p:nvPr/>
        </p:nvSpPr>
        <p:spPr>
          <a:xfrm>
            <a:off x="728280" y="1618920"/>
            <a:ext cx="9626760" cy="4560840"/>
          </a:xfrm>
          <a:prstGeom prst="rect">
            <a:avLst/>
          </a:prstGeom>
          <a:noFill/>
          <a:ln w="0">
            <a:noFill/>
          </a:ln>
        </p:spPr>
        <p:txBody>
          <a:bodyPr anchor="t">
            <a:norm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entury Schoolbook"/>
              </a:rPr>
              <a:t>Sentenza n. 28575 del 20 Dicembre 2013 della Corte di Cassazione Civile, Sezione 2</a:t>
            </a:r>
            <a:endParaRPr b="0" lang="en-US" sz="16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La sentenza n. 28575 del 20 dicembre 2013 pronunciata della Corte di Cassazione Civile, sezione seconda, ha fatto sorgere qualche preoccupazione in più tra i professionisti circa le tempistiche per la contestazione, da parte di terzi, di eventuali “difetti” dell’opera attribuibili a mancanze e/o errori nella prestazione d’opera intellettuale.</a:t>
            </a:r>
            <a:br>
              <a:rPr sz="1800"/>
            </a:br>
            <a:r>
              <a:rPr b="0" lang="it-IT" sz="1800" spc="-1" strike="noStrike">
                <a:solidFill>
                  <a:srgbClr val="000000"/>
                </a:solidFill>
                <a:latin typeface="Century Schoolbook"/>
              </a:rPr>
              <a:t>In realtà la recente sentenza non ha fatto altro che confermare quanto già riconosciuto dalla Cassazione in diverse sentenze precedenti circa l’inapplicabilità alla prestazione d’opera intellettuale dell’art. 2226 c.c. che così recita: “L’accettazione espressa o tacita dell’opera libera il prestatore d’opera dalla responsabilità per difformità o per vizi della medesima, se all’atto dell’accettazione questi erano noti al committente o facilmente riconoscibili, purché in questo caso non siano stati dolosamente occultati. Il committente deve, a pena di decadenza, denunziare le difformità e i vizi occulti al prestatore d'opera entro otto giorni dalla scoperta. L'azione si prescrive entro un anno dalla consegna.” </a:t>
            </a:r>
            <a:br>
              <a:rPr sz="1800"/>
            </a:b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52120" y="320760"/>
            <a:ext cx="9823320" cy="6253200"/>
          </a:xfrm>
          <a:prstGeom prst="rect">
            <a:avLst/>
          </a:prstGeom>
          <a:noFill/>
          <a:ln w="0">
            <a:noFill/>
          </a:ln>
        </p:spPr>
        <p:txBody>
          <a:bodyPr anchor="t">
            <a:normAutofit fontScale="99000"/>
          </a:bodyPr>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entury Schoolbook"/>
              </a:rPr>
              <a:t>L’architetto presenta quindi decreto ingiuntivo contro il cliente per il riconoscimento delle proprie spettanze.</a:t>
            </a:r>
            <a:br>
              <a:rPr sz="1700"/>
            </a:br>
            <a:r>
              <a:rPr b="0" lang="it-IT" sz="1700" spc="-1" strike="noStrike">
                <a:solidFill>
                  <a:srgbClr val="000000"/>
                </a:solidFill>
                <a:latin typeface="Century Schoolbook"/>
              </a:rPr>
              <a:t>Il cliente si oppone al decreto ingiuntivo lamentando vizi nell’opera conseguenti alla condotta colposa del professionista e ottiene la riduzione dell’ammontare richiesto con il decreto stesso. </a:t>
            </a:r>
            <a:br>
              <a:rPr sz="1700"/>
            </a:br>
            <a:r>
              <a:rPr b="0" lang="it-IT" sz="1700" spc="-1" strike="noStrike">
                <a:solidFill>
                  <a:srgbClr val="000000"/>
                </a:solidFill>
                <a:latin typeface="Century Schoolbook"/>
              </a:rPr>
              <a:t>Il professionista ricorre in appello contro tale sentenza, obiettando la tardività della contestazione dei vizi dell’opera da parte del cliente che aveva inviato raccomandata oltre il termine decadenziale di 8gg previsto dal art.2226 c.c., obiezione che la Corte d’Appello accoglie riformando la sentenza di primo grado.</a:t>
            </a:r>
            <a:br>
              <a:rPr sz="1700"/>
            </a:br>
            <a:r>
              <a:rPr b="0" lang="it-IT" sz="1700" spc="-1" strike="noStrike">
                <a:solidFill>
                  <a:srgbClr val="000000"/>
                </a:solidFill>
                <a:latin typeface="Century Schoolbook"/>
              </a:rPr>
              <a:t>Il cliente presenta allora ricorso alla Corte di Cassazione sostenendo che i termini di decadenza e prescrizioni dell’azione di garanzia di cui all’art.2226 c.c. non sono applicabili alla prestazione d’opera intellettuale. </a:t>
            </a:r>
            <a:endParaRPr b="0" lang="en-US" sz="1700" spc="-1" strike="noStrike">
              <a:solidFill>
                <a:srgbClr val="000000"/>
              </a:solidFill>
              <a:latin typeface="Century Schoolbook"/>
            </a:endParaRPr>
          </a:p>
          <a:p>
            <a:pPr>
              <a:lnSpc>
                <a:spcPct val="8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it-IT" sz="1700" spc="-1" strike="noStrike">
                <a:solidFill>
                  <a:srgbClr val="000000"/>
                </a:solidFill>
                <a:latin typeface="Century Schoolbook"/>
              </a:rPr>
              <a:t>E’ a questo punto che la Corte di Cassazione conferma, con sentenza n. 28575 del 20/12/2013, che i termini dell’art. 2226 c.c. sono inapplicabili alla “alla prestazione d’opera intellettuale</a:t>
            </a:r>
            <a:r>
              <a:rPr b="0" lang="it-IT" sz="1700" spc="-1" strike="noStrike">
                <a:solidFill>
                  <a:srgbClr val="000000"/>
                </a:solidFill>
                <a:latin typeface="Century Schoolbook"/>
              </a:rPr>
              <a:t>, ed in particolare alla prestazione del professionista che abbia assunto l’obbligazione della redazione di un progetto di ingegneria o della direzione dei lavori, ovvero l’uno e l’altro compito, attesa l’eterogeneità della prestazione rispetto a quella manuale, cui si riferisce l’art. 2226 cod. civ., norma </a:t>
            </a:r>
            <a:r>
              <a:rPr b="1" lang="it-IT" sz="1700" spc="-1" strike="noStrike">
                <a:solidFill>
                  <a:srgbClr val="000000"/>
                </a:solidFill>
                <a:latin typeface="Century Schoolbook"/>
              </a:rPr>
              <a:t>che perciò non è da considerare tra quelle richiamate dall’art. 2230 dello stesso codice” e che pertanto “si deve escludere che il criterio risolutivo ai fini dell’applicabilità delle predette disposizioni alle prestazioni in questione possa essere costituito dalla distinzione – priva di incidenza sul regime di responsabilità del professionista fra le cosiddette obbligazioni di mezzi e le cosiddette obbligazioni di risultato</a:t>
            </a:r>
            <a:r>
              <a:rPr b="0" lang="it-IT" sz="1700" spc="-1" strike="noStrike">
                <a:solidFill>
                  <a:srgbClr val="000000"/>
                </a:solidFill>
                <a:latin typeface="Century Schoolbook"/>
              </a:rPr>
              <a:t>: e ciò tenuto conto anche della frequente commistione, rispetto alle prestazioni professionali in questione, delle diverse obbligazioni in capo al medesimo o a distinti soggetti in vista dello stesso scopo finale, a fronte della quale una diversità di disciplina normativa risulterebbe ingiustificata””</a:t>
            </a:r>
            <a:br>
              <a:rPr sz="1700"/>
            </a:b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62160" y="678960"/>
            <a:ext cx="8594640" cy="5573880"/>
          </a:xfrm>
          <a:prstGeom prst="rect">
            <a:avLst/>
          </a:prstGeom>
          <a:noFill/>
          <a:ln w="0">
            <a:noFill/>
          </a:ln>
        </p:spPr>
        <p:txBody>
          <a:bodyPr anchor="t">
            <a:normAutofit/>
          </a:bodyPr>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A questo proposito va anche ricordato che la responsabilità dell’architetto si configura in genere come di natura contrattuale nei confronti del committente e di tipo extracontrattuale nei confronti di terzi (anche se non è quasi mai da escludere la coesistenza delle due tipologie di responsabilità). La prescrizione è decennale nel primo caso e quinquennale nel secondo caso e decorre dal giorno in cui il diritto può essere fatto valere. In caso di responsabilità penali poi, la prescrizione decorre dal momento del verificarsi del reato e quindi può estendersi ben oltre i dieci anni anche con riferimento all’eventuale obbligo risarcitorio alle parti civili ad esso conseguente</a:t>
            </a:r>
            <a:endParaRPr b="0" lang="en-US" sz="1800" spc="-1" strike="noStrike">
              <a:solidFill>
                <a:srgbClr val="000000"/>
              </a:solidFill>
              <a:latin typeface="Century Schoolbook"/>
            </a:endParaRPr>
          </a:p>
          <a:p>
            <a:pP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Di fronte a questo quadro normativo molto poco rassicurante, il professionista ha però la possibilità di tutelarsi adeguatamente, almeno con riguardo all’obbligo risarcitorio conseguente alla responsabilità civile, mediante la stipula di idonea polizza con retroattività illimitata che copra eventuali errori dall’inizio dell’attività libero professionale. Tale copertura assicurativa, obbligatoria dal 15/08 u.s., dovrà essere mantenuta attiva per tutto il periodo di svolgimento attivo della libera professione. Al cessare, per qualsiasi motivo, dell’attività libero professionale sarà parimenti opportuno stipulare una postuma di adeguata durata per tutelarsi contro eventuali richieste di risarcimento successive alla cessazione dell’attività ma riferite ad errori precedenti alla stessa.</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77680" y="2063880"/>
            <a:ext cx="8978760" cy="3905280"/>
          </a:xfrm>
          <a:prstGeom prst="rect">
            <a:avLst/>
          </a:prstGeom>
          <a:noFill/>
          <a:ln w="0">
            <a:noFill/>
          </a:ln>
        </p:spPr>
        <p:txBody>
          <a:bodyPr anchor="t">
            <a:norm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Schoolbook"/>
              </a:rPr>
              <a:t>  </a:t>
            </a:r>
            <a:r>
              <a:rPr b="1" lang="it-IT" sz="1800" spc="-1" strike="noStrike">
                <a:solidFill>
                  <a:srgbClr val="000000"/>
                </a:solidFill>
                <a:latin typeface="Century Schoolbook"/>
              </a:rPr>
              <a:t>La responsabilità solidale nei sinistri dei professionisti tecnici</a:t>
            </a:r>
            <a:endParaRPr b="0" lang="en-US" sz="1800" spc="-1" strike="noStrike">
              <a:solidFill>
                <a:srgbClr val="000000"/>
              </a:solidFill>
              <a:latin typeface="Century Schoolbook"/>
            </a:endParaRPr>
          </a:p>
          <a:p>
            <a:pPr>
              <a:lnSpc>
                <a:spcPct val="150000"/>
              </a:lnSpc>
              <a:spcBef>
                <a:spcPts val="601"/>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0" lang="it-IT" sz="1400" spc="-1" strike="noStrike">
                <a:solidFill>
                  <a:srgbClr val="000000"/>
                </a:solidFill>
                <a:latin typeface="Tahoma"/>
                <a:ea typeface="Tahoma"/>
              </a:rPr>
              <a:t>L’obbligo assicurativo introdotto dalla L. 14/09/2011 n.148 e dal successivo D.P.R. 07/08/2012 n.137, si riferisce alla Responsabilità Civile del libero professionista ovvero la responsabilità che insorge quando il professionista, nello svolgimento del proprio incarico, cagiona un danno a terzi e che ha come conseguenza l’obbligo al risarcimento del danno stesso. </a:t>
            </a:r>
            <a:endParaRPr b="0" lang="en-US" sz="1400" spc="-1" strike="noStrike">
              <a:solidFill>
                <a:srgbClr val="000000"/>
              </a:solidFill>
              <a:latin typeface="Century Schoolbook"/>
            </a:endParaRPr>
          </a:p>
          <a:p>
            <a:pPr>
              <a:lnSpc>
                <a:spcPct val="150000"/>
              </a:lnSpc>
              <a:spcBef>
                <a:spcPts val="601"/>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Quando i responsabili del medesimo danno sono più d’uno, è possibile che il professionista incorra nella cosiddetta “responsabilità solidale” come previsto dall’art. 2055 del c.c. che testualmente recita: “Se il fatto dannoso è imputabile a più persone, tutte sono obbligate in solido al risarcimento del danno. Colui che ha risarcito il danno ha regresso contro ciascuno degli altri, nella misura determinata dalla gravità della rispettiva colpa e dall'entità delle conseguenze che ne sono derivate. Nel dubbio, le singole colpe si presumono uguali.”</a:t>
            </a:r>
            <a:endParaRPr b="0" lang="en-US" sz="1400" spc="-1" strike="noStrike">
              <a:solidFill>
                <a:srgbClr val="000000"/>
              </a:solidFill>
              <a:latin typeface="Century Schoolbook"/>
            </a:endParaRPr>
          </a:p>
          <a:p>
            <a:pPr>
              <a:lnSpc>
                <a:spcPct val="75000"/>
              </a:lnSpc>
              <a:spcBef>
                <a:spcPts val="1400"/>
              </a:spcBef>
              <a:spcAft>
                <a:spcPts val="201"/>
              </a:spcAft>
              <a:buClr>
                <a:srgbClr val="6f6f7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
        <p:nvSpPr>
          <p:cNvPr id="185" name="PlaceHolder 1"/>
          <p:cNvSpPr>
            <a:spLocks noGrp="1"/>
          </p:cNvSpPr>
          <p:nvPr>
            <p:ph type="title"/>
          </p:nvPr>
        </p:nvSpPr>
        <p:spPr>
          <a:xfrm>
            <a:off x="712800" y="293760"/>
            <a:ext cx="9693360" cy="1325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ff0000"/>
                </a:solidFill>
                <a:latin typeface="Century Schoolbook"/>
              </a:rPr>
              <a:t>1 - Responsabilità professionale singola e solidale in tema di obbligazione di mezzi e di risultato</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22T09:45:41Z</dcterms:created>
  <dc:creator>ANDREA GUASTALLA</dc:creator>
  <dc:description/>
  <dc:language>en-US</dc:language>
  <cp:lastModifiedBy>amministratore</cp:lastModifiedBy>
  <dcterms:modified xsi:type="dcterms:W3CDTF">2017-02-27T11:51:55Z</dcterms:modified>
  <cp:revision>17</cp:revision>
  <dc:subject/>
  <dc:title>RESPONSABILITA’ PROFESSIONALE_ LINEE GUIDA PROCEDURA RILASCIO PARERE DI CONGRUITA’_ CORRISPETTIVI PROFESSIONALI ESCLUSI_ CREDITI FORMATIVI</dc:title>
</cp:coreProperties>
</file>